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.wmf" ContentType="image/x-wmf"/>
  <Override PartName="/ppt/media/image2.jpeg" ContentType="image/jpeg"/>
  <Override PartName="/ppt/media/image24.png" ContentType="image/png"/>
  <Override PartName="/ppt/media/image23.png" ContentType="image/png"/>
  <Override PartName="/ppt/media/image21.wmf" ContentType="image/x-wmf"/>
  <Override PartName="/ppt/media/image4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30.bin" ContentType="application/vnd.openxmlformats-officedocument.oleObject"/>
  <Override PartName="/ppt/embeddings/oleObject18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831240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5800" y="3808440"/>
            <a:ext cx="831240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960" y="120960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5800" y="380844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960" y="380844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267624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6320" y="1209600"/>
            <a:ext cx="267624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6840" y="1209600"/>
            <a:ext cx="267624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5800" y="3808440"/>
            <a:ext cx="267624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6320" y="3808440"/>
            <a:ext cx="267624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6840" y="3808440"/>
            <a:ext cx="267624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5800" y="1209600"/>
            <a:ext cx="831240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83124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405612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960" y="1209600"/>
            <a:ext cx="405612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76320"/>
            <a:ext cx="7327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209600"/>
            <a:ext cx="405612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5800" y="380844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405612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20960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960" y="380844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960" y="120960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5800" y="3808440"/>
            <a:ext cx="831240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5800" y="1209600"/>
            <a:ext cx="83124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200280" y="6643800"/>
            <a:ext cx="284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mus Munk Larsen / Pipeline Processing </a:t>
            </a:r>
            <a:fld id="{6C3E8F4E-AF70-45C5-B7AF-39F517764A29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0160" y="6461280"/>
            <a:ext cx="238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63440" y="66438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16120" cy="816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01760" y="831960"/>
            <a:ext cx="8305560" cy="60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1480" y="880920"/>
            <a:ext cx="8305920" cy="60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317080" y="23760"/>
            <a:ext cx="78408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7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8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7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3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7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7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8.wmf"/><Relationship Id="rId6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Pipeline Processing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es and data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smus Munk Larsen, Stanford Univers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munk@quake.stanford.ed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0-725-548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81800" y="6539040"/>
            <a:ext cx="238428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i  - Tape service user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074600" y="1209600"/>
            <a:ext cx="69930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_get() API Call Sequ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30556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 Unit Management System (SUMS) AP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83124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  *SUM_open(char *dbnam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a session with the SU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  SUM_close(SUM *s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a session with the SU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  SUM_alloc(SUM *s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e a storage unit on the dis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  SUM_get(SUM *s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he requested storage un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  SUM_put(SUM *s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t a previously allocated storage 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  SUM_poll(SUM *s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if a previous request is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  SUM_wait(SUM *s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 until previous request is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data model: Motiv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olved from MDI dataset concept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 record level access to meta-data for queries and brow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mmodate more complex data models required by higher-level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design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learned from MDI: Separate meta-data (keywords) and imag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ed to re-write large image files when only keywords change (lev1.8 probl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ut-of-date keyword values in FITS headers - can bind to most recent values on 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data access through query-like dataset 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ccess in terms of (sets of) data records, which are the “atomic units” of a data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tas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query specifying a set of data rec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soc:hmi_lev1_V[#3000-#3020] (21 records from with known epoch and caden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soc:hmi_lev0_fg[t_obs=2008-11-07_02:00:00/8h][cam=‘doppler’]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8 hours worth of filtergra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age and tape management must be transparent to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unking of data records into storage units for efficient tape/disk usage done intern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ly separate storage and meta-data (i.e. series &amp; record) databases: more modular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DI data and modules will be migrated to use new storage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meta-data (keywords) in relational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use power of relational database to rapidly find data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and fast to create time series of any keyword value (for trending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: Data records for a given series must be well defined (i.e. have a fixed set of keywor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19320" y="39600"/>
            <a:ext cx="6649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data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83124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SOC Data is organized according to a data model with the following class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ie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sequence of like data records, typically data products produced by a particular analys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 includ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me, Owner , primary search index, Storage unit size, Stora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rd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 measurement/image/observation with associated meta-da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 includ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D, Storage Unit ID, Storage Unit Slot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words, Links, Data se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s are the main data objects seen by module program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Named meta-data value, stored in datab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 includ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me, Type, Value, Physical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d pointer from one record to another, stored in datab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 includ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me, Target series, target record id or primary index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capture data dependencies and processing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Seg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Named data container representing the primary data on disk belonging to a recor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 includ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ename, datatype, naxis, axis[0…naxis-1], storag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either structure-less (any file) or n-dimensional array stored in tiled, compressed fil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age Unit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hunk of data records from the same series stored in a single directory tre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: includ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nline location, offline location, tape group, reten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d by the Storage Unit Manager in a manner transparent to most module program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923760" y="2343240"/>
            <a:ext cx="1428840" cy="266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mi_lev0_cam1_f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48280" y="1638360"/>
            <a:ext cx="3809880" cy="47624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data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8320" y="1230480"/>
            <a:ext cx="14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C Data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23560" y="1230480"/>
            <a:ext cx="176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records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ies hmi_lev1_fd_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58640" y="1230480"/>
            <a:ext cx="25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ngl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mi_lev1_fd_V da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9640" y="2581200"/>
            <a:ext cx="1238400" cy="2095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ia_lev0_cont1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7360" y="2781360"/>
            <a:ext cx="1143000" cy="266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mi_lev1_fd_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3800" y="3019320"/>
            <a:ext cx="1162080" cy="247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960" y="3228840"/>
            <a:ext cx="1086120" cy="247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ia_lev0_FE1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05000" y="2562120"/>
            <a:ext cx="1257480" cy="247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90880" y="2771640"/>
            <a:ext cx="1257120" cy="247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57680" y="2981160"/>
            <a:ext cx="1257120" cy="247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43200" y="3209760"/>
            <a:ext cx="1257480" cy="247680"/>
          </a:xfrm>
          <a:prstGeom prst="rect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29080" y="3429000"/>
            <a:ext cx="1257120" cy="247680"/>
          </a:xfrm>
          <a:prstGeom prst="rect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95520" y="3629160"/>
            <a:ext cx="1257480" cy="247680"/>
          </a:xfrm>
          <a:prstGeom prst="rect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00480" y="3838680"/>
            <a:ext cx="1257120" cy="24768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4160" y="3432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28640" y="4365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48280" y="1581120"/>
            <a:ext cx="3827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ORDNUM = 12345    # Unique serial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RIESNUM = 5531704   # Slots since epo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_OBS = ‘2009.01.05_23:22:40_TAI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MIN = -2.537730543544E+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MAX = 1.935749511719E+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_ANGLE = LINK:ORBIT,KEYWORD:SOLAR_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95600" y="2571840"/>
            <a:ext cx="1409400" cy="457200"/>
          </a:xfrm>
          <a:custGeom>
            <a:avLst/>
            <a:gdLst/>
            <a:ahLst/>
            <a:rect l="l" t="t" r="r" b="b"/>
            <a:pathLst>
              <a:path w="888" h="288">
                <a:moveTo>
                  <a:pt x="0" y="288"/>
                </a:moveTo>
                <a:lnTo>
                  <a:pt x="88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95600" y="3276720"/>
            <a:ext cx="495000" cy="1218960"/>
          </a:xfrm>
          <a:custGeom>
            <a:avLst/>
            <a:gdLst/>
            <a:ahLst/>
            <a:rect l="l" t="t" r="r" b="b"/>
            <a:pathLst>
              <a:path w="312" h="768">
                <a:moveTo>
                  <a:pt x="0" y="0"/>
                </a:moveTo>
                <a:lnTo>
                  <a:pt x="312" y="76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00680" y="3200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62480" y="1628640"/>
            <a:ext cx="685800" cy="943200"/>
          </a:xfrm>
          <a:custGeom>
            <a:avLst/>
            <a:gdLst/>
            <a:ahLst/>
            <a:rect l="l" t="t" r="r" b="b"/>
            <a:pathLst>
              <a:path w="432" h="594">
                <a:moveTo>
                  <a:pt x="0" y="594"/>
                </a:moveTo>
                <a:lnTo>
                  <a:pt x="43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62480" y="2805120"/>
            <a:ext cx="685800" cy="3595680"/>
          </a:xfrm>
          <a:custGeom>
            <a:avLst/>
            <a:gdLst/>
            <a:ahLst/>
            <a:rect l="l" t="t" r="r" b="b"/>
            <a:pathLst>
              <a:path w="432" h="2265">
                <a:moveTo>
                  <a:pt x="0" y="0"/>
                </a:moveTo>
                <a:lnTo>
                  <a:pt x="432" y="226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38360" y="3848040"/>
            <a:ext cx="590760" cy="857160"/>
          </a:xfrm>
          <a:custGeom>
            <a:avLst/>
            <a:gdLst/>
            <a:ahLst/>
            <a:rect l="l" t="t" r="r" b="b"/>
            <a:pathLst>
              <a:path w="372" h="540">
                <a:moveTo>
                  <a:pt x="144" y="0"/>
                </a:moveTo>
                <a:lnTo>
                  <a:pt x="372" y="540"/>
                </a:lnTo>
                <a:lnTo>
                  <a:pt x="0" y="41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64000" y="4649760"/>
            <a:ext cx="109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age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Dire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08400" y="3241800"/>
            <a:ext cx="340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50440" y="3157560"/>
            <a:ext cx="29757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BIT = hmi_lev0_orbit, SERIESNUM = 2212681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LTABLE = hmi_lev0_dopcal, RECORDNUM =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1 = hmi_lev0_cam1_fg, RECORDNUM = 423452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1 = hmi_lev0_cam1_fg, RECORDNUM = 423452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50080" y="4205160"/>
            <a:ext cx="1785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Seg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_DOPPLER =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305080" y="4048200"/>
            <a:ext cx="1257120" cy="24768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90600" y="4257720"/>
            <a:ext cx="1257480" cy="24768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6008760" y="4600440"/>
            <a:ext cx="17748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Series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-12600" y="1030320"/>
            <a:ext cx="915660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Database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074600" y="1209600"/>
            <a:ext cx="69948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base tables for example series hmi_fd_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395360" y="3135240"/>
            <a:ext cx="4562640" cy="3181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20760" y="1190520"/>
            <a:ext cx="831204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s specific for each series contain per record value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rd numbers of records pointed to by lin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Index = an index identifying the SUMS storage unit containing the data segments of a 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es sequence counter used for generating unique record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Internal file format: Tiled Array Sto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5524560" y="1657440"/>
          <a:ext cx="3076560" cy="1942920"/>
        </p:xfrm>
        <a:graphic>
          <a:graphicData uri="http://schemas.openxmlformats.org/drawingml/2006/table">
            <a:tbl>
              <a:tblPr/>
              <a:tblGrid>
                <a:gridCol w="1560600"/>
                <a:gridCol w="15159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MS TAS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bytes of mag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3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p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x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is[0:naxis-1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32 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ksz[0:naxis-1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32 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76" name=""/>
          <p:cNvGrpSpPr/>
          <p:nvPr/>
        </p:nvGrpSpPr>
        <p:grpSpPr>
          <a:xfrm>
            <a:off x="395280" y="2100240"/>
            <a:ext cx="2223720" cy="857160"/>
            <a:chOff x="395280" y="2100240"/>
            <a:chExt cx="2223720" cy="857160"/>
          </a:xfrm>
        </p:grpSpPr>
        <p:grpSp>
          <p:nvGrpSpPr>
            <p:cNvPr id="377" name=""/>
            <p:cNvGrpSpPr/>
            <p:nvPr/>
          </p:nvGrpSpPr>
          <p:grpSpPr>
            <a:xfrm>
              <a:off x="733680" y="2100240"/>
              <a:ext cx="1885320" cy="514440"/>
              <a:chOff x="733680" y="2100240"/>
              <a:chExt cx="1885320" cy="514440"/>
            </a:xfrm>
          </p:grpSpPr>
          <p:sp>
            <p:nvSpPr>
              <p:cNvPr id="378" name=""/>
              <p:cNvSpPr/>
              <p:nvPr/>
            </p:nvSpPr>
            <p:spPr>
              <a:xfrm>
                <a:off x="733680" y="210024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180800" y="210024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638000" y="210024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76480" y="210024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567000" y="2271600"/>
              <a:ext cx="1885320" cy="514440"/>
              <a:chOff x="567000" y="2271600"/>
              <a:chExt cx="1885320" cy="514440"/>
            </a:xfrm>
          </p:grpSpPr>
          <p:sp>
            <p:nvSpPr>
              <p:cNvPr id="383" name=""/>
              <p:cNvSpPr/>
              <p:nvPr/>
            </p:nvSpPr>
            <p:spPr>
              <a:xfrm>
                <a:off x="567000" y="227160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014120" y="227160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71320" y="227160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909800" y="227160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395280" y="2443320"/>
              <a:ext cx="1886040" cy="514080"/>
              <a:chOff x="395280" y="2443320"/>
              <a:chExt cx="1886040" cy="514080"/>
            </a:xfrm>
          </p:grpSpPr>
          <p:sp>
            <p:nvSpPr>
              <p:cNvPr id="388" name=""/>
              <p:cNvSpPr/>
              <p:nvPr/>
            </p:nvSpPr>
            <p:spPr>
              <a:xfrm>
                <a:off x="395280" y="2443320"/>
                <a:ext cx="54288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42760" y="2443320"/>
                <a:ext cx="54324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299960" y="2443320"/>
                <a:ext cx="54324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738440" y="2443320"/>
                <a:ext cx="54288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2" name=""/>
          <p:cNvGrpSpPr/>
          <p:nvPr/>
        </p:nvGrpSpPr>
        <p:grpSpPr>
          <a:xfrm>
            <a:off x="395280" y="1690560"/>
            <a:ext cx="2223720" cy="857160"/>
            <a:chOff x="395280" y="1690560"/>
            <a:chExt cx="2223720" cy="857160"/>
          </a:xfrm>
        </p:grpSpPr>
        <p:grpSp>
          <p:nvGrpSpPr>
            <p:cNvPr id="393" name=""/>
            <p:cNvGrpSpPr/>
            <p:nvPr/>
          </p:nvGrpSpPr>
          <p:grpSpPr>
            <a:xfrm>
              <a:off x="733680" y="1690560"/>
              <a:ext cx="1885320" cy="514440"/>
              <a:chOff x="733680" y="1690560"/>
              <a:chExt cx="1885320" cy="514440"/>
            </a:xfrm>
          </p:grpSpPr>
          <p:sp>
            <p:nvSpPr>
              <p:cNvPr id="394" name=""/>
              <p:cNvSpPr/>
              <p:nvPr/>
            </p:nvSpPr>
            <p:spPr>
              <a:xfrm>
                <a:off x="733680" y="169056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80800" y="169056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638000" y="169056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076480" y="169056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67000" y="1861920"/>
              <a:ext cx="1885320" cy="514440"/>
              <a:chOff x="567000" y="1861920"/>
              <a:chExt cx="1885320" cy="514440"/>
            </a:xfrm>
          </p:grpSpPr>
          <p:sp>
            <p:nvSpPr>
              <p:cNvPr id="399" name=""/>
              <p:cNvSpPr/>
              <p:nvPr/>
            </p:nvSpPr>
            <p:spPr>
              <a:xfrm>
                <a:off x="567000" y="186192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014120" y="186192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71320" y="186192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909800" y="186192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395280" y="2033640"/>
              <a:ext cx="1886040" cy="514080"/>
              <a:chOff x="395280" y="2033640"/>
              <a:chExt cx="1886040" cy="514080"/>
            </a:xfrm>
          </p:grpSpPr>
          <p:sp>
            <p:nvSpPr>
              <p:cNvPr id="404" name=""/>
              <p:cNvSpPr/>
              <p:nvPr/>
            </p:nvSpPr>
            <p:spPr>
              <a:xfrm>
                <a:off x="395280" y="2033640"/>
                <a:ext cx="54288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42760" y="2033640"/>
                <a:ext cx="54324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99960" y="2033640"/>
                <a:ext cx="54324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738440" y="2033640"/>
                <a:ext cx="54288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8" name=""/>
          <p:cNvSpPr/>
          <p:nvPr/>
        </p:nvSpPr>
        <p:spPr>
          <a:xfrm>
            <a:off x="733320" y="1281240"/>
            <a:ext cx="542880" cy="51408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81160" y="1281240"/>
            <a:ext cx="542880" cy="51408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38360" y="1281240"/>
            <a:ext cx="542880" cy="51408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76480" y="1281240"/>
            <a:ext cx="542880" cy="51408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6640" y="145260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14480" y="145260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71680" y="145260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09800" y="145260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5280" y="162396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43120" y="162396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00320" y="162396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738440" y="162396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86120" y="3090960"/>
            <a:ext cx="542880" cy="51408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5519880" y="3586320"/>
          <a:ext cx="3081240" cy="2819160"/>
        </p:xfrm>
        <a:graphic>
          <a:graphicData uri="http://schemas.openxmlformats.org/drawingml/2006/table">
            <a:tbl>
              <a:tblPr/>
              <a:tblGrid>
                <a:gridCol w="1557360"/>
                <a:gridCol w="1523880"/>
              </a:tblGrid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ck index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eap offset, compressed size, Adler32 checksum) for each block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t64, int64, int32) 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p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ed data for each blo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w bits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"/>
          <p:cNvSpPr/>
          <p:nvPr/>
        </p:nvSpPr>
        <p:spPr>
          <a:xfrm>
            <a:off x="5569200" y="121140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le format (little endian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8560" y="3247920"/>
            <a:ext cx="1057320" cy="333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8560" y="5477040"/>
            <a:ext cx="1057320" cy="333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67080" y="4362480"/>
            <a:ext cx="1247760" cy="333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ale &amp; Con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6" name=""/>
          <p:cNvCxnSpPr>
            <a:stCxn id="417" idx="3"/>
            <a:endCxn id="423" idx="0"/>
          </p:cNvCxnSpPr>
          <p:nvPr/>
        </p:nvCxnSpPr>
        <p:spPr>
          <a:xfrm>
            <a:off x="1050840" y="2157120"/>
            <a:ext cx="107280" cy="1091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23" idx="3"/>
            <a:endCxn id="420" idx="2"/>
          </p:cNvCxnSpPr>
          <p:nvPr/>
        </p:nvCxnSpPr>
        <p:spPr>
          <a:xfrm flipV="1">
            <a:off x="1685880" y="3412800"/>
            <a:ext cx="120096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25" idx="0"/>
          </p:cNvCxnSpPr>
          <p:nvPr/>
        </p:nvCxnSpPr>
        <p:spPr>
          <a:xfrm flipH="1">
            <a:off x="3090240" y="3605040"/>
            <a:ext cx="3960" cy="758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952560" y="4336920"/>
            <a:ext cx="542880" cy="514440"/>
          </a:xfrm>
          <a:prstGeom prst="cube">
            <a:avLst>
              <a:gd name="adj" fmla="val 25000"/>
            </a:avLst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3"/>
            <a:endCxn id="424" idx="0"/>
          </p:cNvCxnSpPr>
          <p:nvPr/>
        </p:nvCxnSpPr>
        <p:spPr>
          <a:xfrm flipH="1">
            <a:off x="1156680" y="4851360"/>
            <a:ext cx="3960" cy="626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5" idx="1"/>
            <a:endCxn id="429" idx="5"/>
          </p:cNvCxnSpPr>
          <p:nvPr/>
        </p:nvCxnSpPr>
        <p:spPr>
          <a:xfrm flipH="1">
            <a:off x="1494720" y="4529160"/>
            <a:ext cx="97236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 flipV="1">
            <a:off x="2319480" y="5605560"/>
            <a:ext cx="1028520" cy="123840"/>
          </a:xfrm>
          <a:prstGeom prst="cube">
            <a:avLst>
              <a:gd name="adj" fmla="val 25000"/>
            </a:avLst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4" idx="3"/>
            <a:endCxn id="432" idx="2"/>
          </p:cNvCxnSpPr>
          <p:nvPr/>
        </p:nvCxnSpPr>
        <p:spPr>
          <a:xfrm>
            <a:off x="1685880" y="5643720"/>
            <a:ext cx="634320" cy="8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905280" y="5486400"/>
            <a:ext cx="1057320" cy="333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2" idx="4"/>
            <a:endCxn id="434" idx="1"/>
          </p:cNvCxnSpPr>
          <p:nvPr/>
        </p:nvCxnSpPr>
        <p:spPr>
          <a:xfrm>
            <a:off x="3316320" y="5651640"/>
            <a:ext cx="5896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 flipV="1">
            <a:off x="5919840" y="5605560"/>
            <a:ext cx="1095480" cy="123840"/>
          </a:xfrm>
          <a:prstGeom prst="cube">
            <a:avLst>
              <a:gd name="adj" fmla="val 25000"/>
            </a:avLst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34" idx="3"/>
            <a:endCxn id="436" idx="2"/>
          </p:cNvCxnSpPr>
          <p:nvPr/>
        </p:nvCxnSpPr>
        <p:spPr>
          <a:xfrm flipV="1">
            <a:off x="4962240" y="5651280"/>
            <a:ext cx="95796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4" idx="3"/>
          </p:cNvCxnSpPr>
          <p:nvPr/>
        </p:nvCxnSpPr>
        <p:spPr>
          <a:xfrm flipV="1">
            <a:off x="4962600" y="4026960"/>
            <a:ext cx="558000" cy="1626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9600"/>
            <a:ext cx="6649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66360" y="1047240"/>
            <a:ext cx="836316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e, tape robot GUI, 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MS data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objects: series, records, keywords, links, segment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set naming and query syn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l storage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MS AP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set names = DRMS query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66760" y="1114560"/>
            <a:ext cx="88772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RecordSet&gt;  ::= &lt;SeriesName&gt; &lt;RecordSet_Filter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SeriesName&gt; ::= &lt;Strin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RecordSet_Filter&gt; ::= '[' (&lt;RecordList&gt; | &lt;RecordQuery&gt; ) ']'   { &lt;RecordSet_Filter&gt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RecordQuery&gt; ::= '?' &lt;SQL where clause&gt; '?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RecordList&gt; ::= ( ':'&lt;RecnumRangeSet&gt;   |   {&lt;Primekey_Name&gt;'='}&lt;PrimekeyRangeSet&gt;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RecnumRangeSet&gt; ::= &lt;IndexRangeS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Primekey_Name&gt; :: &lt;Strin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PrimekeyRangeSet&gt; ::= (  &lt;IndexRangeSet&gt; | &lt;ValueRangeSet&gt;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IndexRangeSet&gt; ::= ( '#' &lt;Integer&gt;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'#' &lt;Integer&gt; '-' '#' &lt;Integer&gt; { '@' &lt;Integer&gt; }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'#' &lt;Integer&gt; '/' &lt;Integer&gt; { '@' &lt;Integer&gt; 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{ ',' &lt;IndexRangeSet&gt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ValueRangeSet&gt; ::= ( &lt;Value&gt;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Value&gt; '-' &lt;Value&gt; { '@' &lt;Value_Increment&gt; }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Value&gt; '/' &lt;Value_Increment&gt; { '@' &lt;Value_Increment&gt; 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{ ',' &lt;ValueRangeSet&gt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Value&gt; ::= &lt;Integer&gt; | &lt;Real&gt; | &lt;Time&gt; | '&lt;String&gt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Value_Increment&gt; ::= &lt;Integer&gt; | &lt;Real&gt; | &lt;Time_Increm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Time_Increment&gt; ::= &lt;Real&gt;&lt;Time_Increment_Specifi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Time_Increment_Specifier&gt; ::= 's' | 'm' | 'h' | 'd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ry exam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83124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e value range queries (primary key=t_obs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mi_XXX[t_obs=2009-11-01_00:00:00-2009-11-01-00:59:59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mi_XXX[2009-11-01/1h]                           (primary key implie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a_XXX[2009-11-01/1h,2009-12-01/3h]   (multiple interval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a_XXX[2009-11-01/1h@3m]                    (subsampling)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valued primary key (t_obs,lat,long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a_YYY[2009-11-01_03:00:00/8h][-45-45][10-40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ally spaced time series (t_obs_epoch and t_obs_step must be present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mi_ZZZ[t_obs=#7532-#7731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mi_ZZZ[#7532/200@10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form SQL where-claus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mi_VVV[2009-11-01/1h][$ datamean&gt;7.5 AND lat*lat+long*long&lt;27 $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solute record numb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a_VVV[:#43214432-#43214460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Record s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95200" y="1057320"/>
            <a:ext cx="8648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Set_t *drms_open_records(DRMS_Env_t *env, char *datasetname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rieve a recordset specified by the dataset name. The datasetname is translated into an SQL query. The matching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s are retrieved, inserted into the record cache and marked read-on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Set_t *drms_create_records(DRMS_Env_t *env, int n, char *seriesname,  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 a new set of n new records with unique record IDs. Assign keywords &amp; links their default values specifi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series defini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Set_t *drms_clone_records(DRMS_RecordSet_t *recset, int mode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ne a set of records: Create a new set of n new records with unique record IDs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gn keywords, links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gments their values from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record set given as input.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mode = DRMS_SHARE_SEGMENTS the clones inherit their data segments, which cannot be modified,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ir parent. If mode=DRMS_COPY_SEGMENTS the clones are assigned a new storage unit slot and the 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 their parent’s storage unit slot is copied there and can be modified at wil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close_records(DRMS_RecordSet_t *rs, int ac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se a set of records and free them from the record cach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tion = DRMS_COMMIT_RECORD or DRMS_DISCARD_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closeall_records(DRMS_Env_t *env, int ac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ecutes drms_close_record for all records in the record cache that are not marked read-on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tion = DRMS_COMMIT_RECORD or DRMS_DISCARD_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Rec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33360" y="1057320"/>
            <a:ext cx="8610480" cy="32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_t *drms_create_record(DRMS_Env_t *env, char *series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_t *drms_clone_record(DRMS_Record_t *oldrec, int mode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close_record(DRMS_Record_t *rec, int ac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, clone and close functions for  a single reco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LE *drms_record_fopen(DRMS_Record_t *rec, char *filename, const char *m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ks DRMS to open or create a file in the directory (storage unit slot) associated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data record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 for the regular fopen mode = “r”, “w”, or “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d drms_record_directory(DRMS_Record_t *rec, char *path)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s the full path of the directory (storage unit slo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gned to this reco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d  drms_record_print(DRMS_Record_t *r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Pretty" print the contents of a record data structure to stdou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Keyw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1008000"/>
            <a:ext cx="863892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ar drms_getkey_char(DRMS_Record_t *rec, const char *key,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hort drms_getkey_short(DRMS_Record_t *rec, const char *key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getkey_int(DRMS_Record_t *rec, const char *key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ng long drms_getkey_longlong(DRMS_Record_t *rec, const char *key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loat drms_getkey_float(DRMS_Record_t *rec, const char *key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uble drms_getkey_double(DRMS_Record_t *rec, const char *key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ar *drms_getkey_string(DRMS_Record_t *rec, const char *key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the value of  a keyword converted from its internal type (specified in the series definition) to the desired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 type. If status!=NULL the return codes 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MS_SUCCES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type conversion was successful with no loss of inform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MS_INEXACT: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keyword value was within the range of the target, but some loss of information occur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e to round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MS_RANGE: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keyword value was outside the range of the target type. The standard missing value fo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target type is return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MS_BADSTRING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converting from a string, the contents of the string did not match a valid constan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target typ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MS_ERROR_UNKNOWNKEYWORD: No such keywo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char(DRMS_Record_t *rec, const char *key, char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short(DRMS_Record_t *rec, const char *key, short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int(DRMS_Record_t *rec, const char *key, int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longlong(DRMS_Record_t *rec, const char *key, long long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float(DRMS_Record_t *rec, const char *key, float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double(DRMS_Record_t *rec, const char *key, double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string(DRMS_Record_t *rec, const char *key, char *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the value of a keyword, converting the given value to the internal type of the keyword. Return codes as abo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Li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985680"/>
            <a:ext cx="88390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_t *drms_link_follow(DRMS_Record_t *rec, const char *linkname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llow a link to its target record, retrieve the record and return a pointer to it. If the link is dynamic the recor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highest record number out of those with values of the primary index keywords matching those in the link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Set_t *drms_link_followall(DRMS_Record_t *rec, const char *linkname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llow a link to its target records, retrieve them and return them in a RecordSet_t structur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the link is dynamic the function returns all records with values of the primary index keywords match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ose in the link. If the link is static only a single record is contained in the RecordS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link_static(DRMS_Record_t *rec, const char *linkname, int recn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a static link to point to the record with absolute record number "recnum" in the target series of the link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link_dynamic(DRMS_Record_t *rec, const char *linkname, DRMS_Type_t *type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Type_Value_t *valu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a dynamic link to point to the record(s) with primary index values matching those given in the "types"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values" arrays. When a dynamic link is resolved, records matching these primary index values are selec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linkrecords(DRMS_Record_t *src_rec, char *linkname, DRMS_Record_t *dst_r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a link in the source record to point to the destination record. An error code is returned if the destination reco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es not belong to the target series of the named link in the source reco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Seg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5200" y="923760"/>
            <a:ext cx="884880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drms_segment_read(DRMS_Segment_t *seg, DRMS_Type_t type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 the contents of a data segment into an array structure, converting  it to the specified typ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)  If the corresponding data file exists and type!=DRMS_TYPE_RAW,  then read the entire data array into memor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rt it  to the type  given as argument and transform the data according to bzero and bscale. The array struct wi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ve israw==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)  If the corresponding data file exists and type=DRMS_TYPE_RAW then the data is read into an array of the sa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 as it is stored on disk with no scaling. The array struct will have israw==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)  If the data file does not exist, then return a data array filed with  the MISSING value specified for the seg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fields arr-&gt;bzero and arr-&gt;bscale are set to the values that apply to the segm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ror codes related to the type conversion are as for the setkey/getkey family of func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drms_segment_readslice(DRMS_Segment_t *seg, DRMS_Type_t type,  int *start, int *en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 a slice from a data segment file. The start offsets will be copied to the array struct such that mapping back i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arent segment array is possible. Type conversion and scaling is performed as in drms_segment_rea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gment_write(DRMS_Segment_t *seg, DRMS_Array_t *ar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 an array to a segment file. The number and size of dimensions of the array must match  those of the segm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ata values are scaled and converted to the representation determined by the segment’s bzero, bscal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. The values of arr-&gt;bzero, arr-&gt;bscale, arr-&gt;israw are used to determine  how to properly scale the da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ree distinct cases aris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arr-&gt;israw==0:  (The values in the array have been scaled to their "true“ values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 = (1.0 / bscale) * y  - bzero / bscale       (y = value in array, x = value written to fi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arr-&gt;israw==1 and arr-&gt;bscale==bscale and arr-&gt;bzero==bzero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 =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arr-&gt;israw==1 and (arr-&gt;bscale!=bscale or arr-&gt;bzero==bzero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 = (arr-&gt;bscale/bscale)*y + (arr-&gt;bzero-bzero)/bsc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Segments (cont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85840" y="979560"/>
            <a:ext cx="88581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gment_setscaling(DRMS_Segment_t *seg, double bzero, double bsca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segment scaling. Can only be done for an array segment and only when creating a new record. Otherwise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ror codes DRMS_ERROR_INVALIDACTION and DRMS_ERROR_RECORDREADONLY are retur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pective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gment_getscaling(DRMS_Segment_t *seg, double *bzero, double *bsca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t scaling for a segment. If the segment is not an array segment an error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MS_ERROR_INVALIDACTION is return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d drms_segment_setblocksize(DRMS_Segment_t *seg, int blksz[DRMS_MAXRANK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tile/block sizes for tiled storage form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d drms_segment_getblocksize(DRMS_Segment_t *seg, int blksz[DRMS_MAXRANK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t tile/block sizes for tiled storage form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Segment_t *drms_segment_lookup(DRMS_Record_t *rec, const char *segna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ok up segment by na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Segment_t *drms_segment_lookupnum(DRMS_Record_t *rec, int segn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ok up segment by numb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d drms_segment_filename(DRMS_Segment_t *seg, char *filena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absolute path to segment file in filena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Array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24000" y="961920"/>
            <a:ext cx="88200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drms_array_create(DRMS_Type_t type, int naxis, int *axis, void *data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emble an array struct from its constituent parts. If data==NULL then allocate a new array and fill it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SS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drms_array_convert(DRMS_Type_t dsttype, double bzero, double bscal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sr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rt array from one DRMS type to another with scaling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drms_array_slice(int *start, int *end, DRMS_Array_t *sr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ke out a hyper-slab of an arr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drms_array_permute(DRMS_Array_t *src, int *perm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rrange the array elements such that the dimensions are ordered according to the permutation given in "perm"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is a generalization of the matrix transpose operator to n dimension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d drms_array2missing(DRMS_Array_t *ar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entire array to MISSING according to arr-&gt;miss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ng long drms_array_count(DRMS_Array_t *ar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 the total number of entries in an n-dimensional arr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ng long drms_array_size(DRMS_Array_t *ar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 the size in bytes of an n-dimensional arr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Poor man’s subset of Fortran 90/Matlab without the syntactic sugar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mple module: Export approa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58760" y="933480"/>
            <a:ext cx="836928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include "jsoc_main.h"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Params_t default_params[] = {{NULL, NULL}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DoIt(voi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i, j, status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MS_RecordSet_t *rs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MS_Record_t *rec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ar *rsname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sname = cmdparams_getarg(&amp;cmdparams,i++))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s = drms_open_records(drms_env, rsname, &amp;status);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 (j=0; j&lt;rs-&gt;n; j++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c = rs-&gt;records[j]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printf(filename,“%06d.fits”,j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ms_record2FITS(rec,filename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ms_close_records(rs, DRMS_DISCARD_RECORD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(“idl analyze_this.idl”); /* A miracle occurs. *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c = drms_create_record(drms_env, “my_data_series”, &amp;status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ms_FITS2record(“result.fits”, rec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ms_close_record(drms_env, rec, DRMS_COMMIT_RECORD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19920" y="1219320"/>
            <a:ext cx="167616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219320"/>
            <a:ext cx="205740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1219320"/>
            <a:ext cx="281952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5181480"/>
            <a:ext cx="3962160" cy="1140120"/>
          </a:xfrm>
          <a:prstGeom prst="rect">
            <a:avLst/>
          </a:prstGeom>
          <a:solidFill>
            <a:srgbClr val="cce8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OC Connecti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27240" y="1503360"/>
          <a:ext cx="38556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1503360"/>
                    <a:ext cx="3855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914400" y="9144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f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800" y="19191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" y="1447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235400" y="5243400"/>
          <a:ext cx="61128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35400" y="5243400"/>
                    <a:ext cx="6112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981080" y="1371600"/>
          <a:ext cx="8398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1371600"/>
                    <a:ext cx="8398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379520" y="1427040"/>
          <a:ext cx="385920" cy="80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9520" y="1427040"/>
                    <a:ext cx="38592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712880" y="193500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200400" y="1523880"/>
            <a:ext cx="761760" cy="888840"/>
            <a:chOff x="3200400" y="1523880"/>
            <a:chExt cx="761760" cy="888840"/>
          </a:xfrm>
        </p:grpSpPr>
        <p:graphicFrame>
          <p:nvGraphicFramePr>
            <p:cNvPr id="68" name=""/>
            <p:cNvGraphicFramePr/>
            <p:nvPr/>
          </p:nvGraphicFramePr>
          <p:xfrm>
            <a:off x="3200400" y="1729800"/>
            <a:ext cx="329760" cy="682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200400" y="1729800"/>
                      <a:ext cx="3297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3361680" y="1653120"/>
            <a:ext cx="330120" cy="683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1680" y="1653120"/>
                      <a:ext cx="330120" cy="6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3496320" y="1575720"/>
            <a:ext cx="330120" cy="682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496320" y="1575720"/>
                      <a:ext cx="33012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3632040" y="1523880"/>
            <a:ext cx="330120" cy="6832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632040" y="1523880"/>
                      <a:ext cx="330120" cy="6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6" name=""/>
          <p:cNvGraphicFramePr/>
          <p:nvPr/>
        </p:nvGraphicFramePr>
        <p:xfrm>
          <a:off x="3505320" y="2819520"/>
          <a:ext cx="579240" cy="37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05320" y="2819520"/>
                    <a:ext cx="5792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553080" y="1523880"/>
          <a:ext cx="881280" cy="978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53080" y="1523880"/>
                    <a:ext cx="88128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029200" y="2133720"/>
          <a:ext cx="839880" cy="1287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29200" y="2133720"/>
                    <a:ext cx="8398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7934400" y="1724040"/>
          <a:ext cx="1209600" cy="725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934400" y="1724040"/>
                    <a:ext cx="12096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40080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85680" y="3994200"/>
            <a:ext cx="1757520" cy="1035000"/>
          </a:xfrm>
          <a:prstGeom prst="rect">
            <a:avLst/>
          </a:prstGeom>
          <a:solidFill>
            <a:srgbClr val="cce8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098720" y="4024440"/>
          <a:ext cx="385560" cy="799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98720" y="4024440"/>
                    <a:ext cx="3855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849240" y="4811760"/>
          <a:ext cx="1067040" cy="377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849240" y="4811760"/>
                    <a:ext cx="10670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2520" y="38862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360" y="43974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935000" y="4111560"/>
          <a:ext cx="519120" cy="5587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35000" y="4111560"/>
                    <a:ext cx="5191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717560" y="4684680"/>
          <a:ext cx="1067040" cy="378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717560" y="4684680"/>
                    <a:ext cx="10670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187640" y="36846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5257800"/>
          <a:ext cx="1828800" cy="10652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62120" y="5257800"/>
                    <a:ext cx="182880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330720" y="5459400"/>
          <a:ext cx="744480" cy="500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330720" y="5459400"/>
                    <a:ext cx="7444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809880" y="3124080"/>
            <a:ext cx="0" cy="234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/>
          <p:nvPr/>
        </p:nvCxnSpPr>
        <p:spPr>
          <a:xfrm>
            <a:off x="2354400" y="4400280"/>
            <a:ext cx="1249920" cy="106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 flipH="1">
            <a:off x="2039400" y="5656320"/>
            <a:ext cx="159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4419720"/>
            <a:ext cx="2743200" cy="1976400"/>
          </a:xfrm>
          <a:prstGeom prst="rect">
            <a:avLst/>
          </a:prstGeom>
          <a:solidFill>
            <a:srgbClr val="cce8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553080" y="4495680"/>
          <a:ext cx="876600" cy="9730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553080" y="4495680"/>
                    <a:ext cx="876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7315200" y="5257800"/>
          <a:ext cx="611280" cy="10666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315200" y="5257800"/>
                    <a:ext cx="6112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041720" y="563400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5638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5638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3200" y="5635800"/>
            <a:ext cx="8413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8534520" y="236196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22320" y="2341440"/>
          <a:ext cx="1066680" cy="3780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922320" y="2341440"/>
                    <a:ext cx="106668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276720" y="2362320"/>
          <a:ext cx="1066680" cy="377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276720" y="2362320"/>
                    <a:ext cx="106668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809160" y="373392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t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5562720"/>
          <a:ext cx="579600" cy="3715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324480" y="5562720"/>
                    <a:ext cx="5796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678168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40080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060440" y="1560240"/>
            <a:ext cx="945720" cy="709920"/>
            <a:chOff x="4060440" y="1560240"/>
            <a:chExt cx="945720" cy="709920"/>
          </a:xfrm>
        </p:grpSpPr>
        <p:sp>
          <p:nvSpPr>
            <p:cNvPr id="126" name=""/>
            <p:cNvSpPr/>
            <p:nvPr/>
          </p:nvSpPr>
          <p:spPr>
            <a:xfrm>
              <a:off x="4238640" y="1560240"/>
              <a:ext cx="666720" cy="524160"/>
            </a:xfrm>
            <a:custGeom>
              <a:avLst/>
              <a:gdLst/>
              <a:ahLst/>
              <a:rect l="l" t="t" r="r" b="b"/>
              <a:pathLst>
                <a:path w="420" h="330">
                  <a:moveTo>
                    <a:pt x="0" y="316"/>
                  </a:moveTo>
                  <a:lnTo>
                    <a:pt x="52" y="316"/>
                  </a:lnTo>
                  <a:lnTo>
                    <a:pt x="52" y="13"/>
                  </a:lnTo>
                  <a:lnTo>
                    <a:pt x="0" y="13"/>
                  </a:lnTo>
                  <a:lnTo>
                    <a:pt x="0" y="316"/>
                  </a:lnTo>
                  <a:close/>
                  <a:moveTo>
                    <a:pt x="52" y="330"/>
                  </a:moveTo>
                  <a:lnTo>
                    <a:pt x="368" y="330"/>
                  </a:lnTo>
                  <a:lnTo>
                    <a:pt x="368" y="0"/>
                  </a:lnTo>
                  <a:lnTo>
                    <a:pt x="52" y="0"/>
                  </a:lnTo>
                  <a:lnTo>
                    <a:pt x="52" y="330"/>
                  </a:lnTo>
                  <a:close/>
                  <a:moveTo>
                    <a:pt x="368" y="316"/>
                  </a:moveTo>
                  <a:lnTo>
                    <a:pt x="420" y="316"/>
                  </a:lnTo>
                  <a:lnTo>
                    <a:pt x="420" y="13"/>
                  </a:lnTo>
                  <a:lnTo>
                    <a:pt x="368" y="13"/>
                  </a:lnTo>
                  <a:lnTo>
                    <a:pt x="368" y="3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38640" y="1581120"/>
              <a:ext cx="82440" cy="48096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21080" y="1560240"/>
              <a:ext cx="501480" cy="52416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22560" y="1581120"/>
              <a:ext cx="82800" cy="48096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63920" y="1593720"/>
              <a:ext cx="406440" cy="458640"/>
            </a:xfrm>
            <a:custGeom>
              <a:avLst/>
              <a:gdLst/>
              <a:ahLst/>
              <a:rect l="l" t="t" r="r" b="b"/>
              <a:pathLst>
                <a:path w="256" h="289">
                  <a:moveTo>
                    <a:pt x="0" y="289"/>
                  </a:moveTo>
                  <a:lnTo>
                    <a:pt x="158" y="289"/>
                  </a:lnTo>
                  <a:lnTo>
                    <a:pt x="158" y="275"/>
                  </a:lnTo>
                  <a:lnTo>
                    <a:pt x="0" y="275"/>
                  </a:lnTo>
                  <a:lnTo>
                    <a:pt x="0" y="289"/>
                  </a:lnTo>
                  <a:close/>
                  <a:moveTo>
                    <a:pt x="0" y="261"/>
                  </a:moveTo>
                  <a:lnTo>
                    <a:pt x="158" y="261"/>
                  </a:lnTo>
                  <a:lnTo>
                    <a:pt x="158" y="247"/>
                  </a:lnTo>
                  <a:lnTo>
                    <a:pt x="0" y="247"/>
                  </a:lnTo>
                  <a:lnTo>
                    <a:pt x="0" y="261"/>
                  </a:lnTo>
                  <a:close/>
                  <a:moveTo>
                    <a:pt x="0" y="233"/>
                  </a:moveTo>
                  <a:lnTo>
                    <a:pt x="158" y="233"/>
                  </a:lnTo>
                  <a:lnTo>
                    <a:pt x="158" y="220"/>
                  </a:lnTo>
                  <a:lnTo>
                    <a:pt x="0" y="220"/>
                  </a:lnTo>
                  <a:lnTo>
                    <a:pt x="0" y="233"/>
                  </a:lnTo>
                  <a:close/>
                  <a:moveTo>
                    <a:pt x="0" y="206"/>
                  </a:moveTo>
                  <a:lnTo>
                    <a:pt x="158" y="206"/>
                  </a:lnTo>
                  <a:lnTo>
                    <a:pt x="158" y="192"/>
                  </a:lnTo>
                  <a:lnTo>
                    <a:pt x="0" y="192"/>
                  </a:lnTo>
                  <a:lnTo>
                    <a:pt x="0" y="206"/>
                  </a:lnTo>
                  <a:close/>
                  <a:moveTo>
                    <a:pt x="0" y="179"/>
                  </a:moveTo>
                  <a:lnTo>
                    <a:pt x="158" y="179"/>
                  </a:lnTo>
                  <a:lnTo>
                    <a:pt x="158" y="165"/>
                  </a:lnTo>
                  <a:lnTo>
                    <a:pt x="0" y="165"/>
                  </a:lnTo>
                  <a:lnTo>
                    <a:pt x="0" y="179"/>
                  </a:lnTo>
                  <a:close/>
                  <a:moveTo>
                    <a:pt x="0" y="151"/>
                  </a:moveTo>
                  <a:lnTo>
                    <a:pt x="158" y="151"/>
                  </a:lnTo>
                  <a:lnTo>
                    <a:pt x="158" y="137"/>
                  </a:lnTo>
                  <a:lnTo>
                    <a:pt x="0" y="137"/>
                  </a:lnTo>
                  <a:lnTo>
                    <a:pt x="0" y="151"/>
                  </a:lnTo>
                  <a:close/>
                  <a:moveTo>
                    <a:pt x="0" y="124"/>
                  </a:moveTo>
                  <a:lnTo>
                    <a:pt x="158" y="124"/>
                  </a:lnTo>
                  <a:lnTo>
                    <a:pt x="158" y="110"/>
                  </a:lnTo>
                  <a:lnTo>
                    <a:pt x="0" y="110"/>
                  </a:lnTo>
                  <a:lnTo>
                    <a:pt x="0" y="124"/>
                  </a:lnTo>
                  <a:close/>
                  <a:moveTo>
                    <a:pt x="0" y="96"/>
                  </a:moveTo>
                  <a:lnTo>
                    <a:pt x="158" y="96"/>
                  </a:lnTo>
                  <a:lnTo>
                    <a:pt x="158" y="82"/>
                  </a:lnTo>
                  <a:lnTo>
                    <a:pt x="0" y="82"/>
                  </a:lnTo>
                  <a:lnTo>
                    <a:pt x="0" y="96"/>
                  </a:lnTo>
                  <a:close/>
                  <a:moveTo>
                    <a:pt x="0" y="68"/>
                  </a:moveTo>
                  <a:lnTo>
                    <a:pt x="158" y="68"/>
                  </a:lnTo>
                  <a:lnTo>
                    <a:pt x="158" y="54"/>
                  </a:lnTo>
                  <a:lnTo>
                    <a:pt x="0" y="54"/>
                  </a:lnTo>
                  <a:lnTo>
                    <a:pt x="0" y="68"/>
                  </a:lnTo>
                  <a:close/>
                  <a:moveTo>
                    <a:pt x="0" y="41"/>
                  </a:moveTo>
                  <a:lnTo>
                    <a:pt x="158" y="41"/>
                  </a:lnTo>
                  <a:lnTo>
                    <a:pt x="158" y="27"/>
                  </a:lnTo>
                  <a:lnTo>
                    <a:pt x="0" y="27"/>
                  </a:lnTo>
                  <a:lnTo>
                    <a:pt x="0" y="41"/>
                  </a:lnTo>
                  <a:close/>
                  <a:moveTo>
                    <a:pt x="0" y="13"/>
                  </a:moveTo>
                  <a:lnTo>
                    <a:pt x="158" y="13"/>
                  </a:lnTo>
                  <a:lnTo>
                    <a:pt x="158" y="0"/>
                  </a:lnTo>
                  <a:lnTo>
                    <a:pt x="0" y="0"/>
                  </a:lnTo>
                  <a:lnTo>
                    <a:pt x="0" y="13"/>
                  </a:lnTo>
                  <a:close/>
                  <a:moveTo>
                    <a:pt x="216" y="144"/>
                  </a:moveTo>
                  <a:lnTo>
                    <a:pt x="256" y="144"/>
                  </a:lnTo>
                  <a:lnTo>
                    <a:pt x="256" y="89"/>
                  </a:lnTo>
                  <a:lnTo>
                    <a:pt x="216" y="89"/>
                  </a:lnTo>
                  <a:lnTo>
                    <a:pt x="216" y="144"/>
                  </a:lnTo>
                  <a:close/>
                  <a:moveTo>
                    <a:pt x="216" y="62"/>
                  </a:moveTo>
                  <a:lnTo>
                    <a:pt x="256" y="62"/>
                  </a:lnTo>
                  <a:lnTo>
                    <a:pt x="256" y="6"/>
                  </a:lnTo>
                  <a:lnTo>
                    <a:pt x="216" y="6"/>
                  </a:lnTo>
                  <a:lnTo>
                    <a:pt x="216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63920" y="2030400"/>
              <a:ext cx="250920" cy="2196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63920" y="1985760"/>
              <a:ext cx="250920" cy="223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63920" y="1942920"/>
              <a:ext cx="250920" cy="205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63920" y="1898640"/>
              <a:ext cx="250920" cy="2196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63920" y="1855800"/>
              <a:ext cx="250920" cy="2196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63920" y="1811160"/>
              <a:ext cx="250920" cy="223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63920" y="1768320"/>
              <a:ext cx="250920" cy="223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63920" y="1724040"/>
              <a:ext cx="250920" cy="2196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63920" y="1679400"/>
              <a:ext cx="250920" cy="223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63920" y="1636560"/>
              <a:ext cx="250920" cy="223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63920" y="1593720"/>
              <a:ext cx="250920" cy="205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6640" y="1734840"/>
              <a:ext cx="63720" cy="8748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06640" y="1603080"/>
              <a:ext cx="63720" cy="889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0440" y="2117520"/>
              <a:ext cx="94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SOC Disk arr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5" name=""/>
          <p:cNvCxnSpPr/>
          <p:nvPr/>
        </p:nvCxnSpPr>
        <p:spPr>
          <a:xfrm flipH="1" rot="16200000">
            <a:off x="3283560" y="2430000"/>
            <a:ext cx="432360" cy="296280"/>
          </a:xfrm>
          <a:prstGeom prst="bentConnector3">
            <a:avLst>
              <a:gd name="adj1" fmla="val 657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/>
          <p:nvPr/>
        </p:nvCxnSpPr>
        <p:spPr>
          <a:xfrm flipV="1" rot="10800000">
            <a:off x="3809160" y="2525760"/>
            <a:ext cx="686520" cy="295560"/>
          </a:xfrm>
          <a:prstGeom prst="bentConnector3">
            <a:avLst>
              <a:gd name="adj1" fmla="val 9742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 flipV="1">
            <a:off x="4495680" y="2285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486400" y="4495680"/>
            <a:ext cx="761760" cy="888840"/>
            <a:chOff x="5486400" y="4495680"/>
            <a:chExt cx="761760" cy="888840"/>
          </a:xfrm>
        </p:grpSpPr>
        <p:graphicFrame>
          <p:nvGraphicFramePr>
            <p:cNvPr id="149" name=""/>
            <p:cNvGraphicFramePr/>
            <p:nvPr/>
          </p:nvGraphicFramePr>
          <p:xfrm>
            <a:off x="5486400" y="4701600"/>
            <a:ext cx="329760" cy="68292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5486400" y="4701600"/>
                      <a:ext cx="3297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5647680" y="4624920"/>
            <a:ext cx="330120" cy="683280"/>
          </p:xfrm>
          <a:graphic>
            <a:graphicData uri="http://schemas.openxmlformats.org/presentationml/2006/ole">
              <p:oleObj r:id="rId49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5647680" y="4624920"/>
                      <a:ext cx="330120" cy="6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5782320" y="4547520"/>
            <a:ext cx="330120" cy="682920"/>
          </p:xfrm>
          <a:graphic>
            <a:graphicData uri="http://schemas.openxmlformats.org/presentationml/2006/ole">
              <p:oleObj r:id="rId51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>
                      <a:off x="5782320" y="4547520"/>
                      <a:ext cx="33012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"/>
            <p:cNvGraphicFramePr/>
            <p:nvPr/>
          </p:nvGraphicFramePr>
          <p:xfrm>
            <a:off x="5918040" y="4495680"/>
            <a:ext cx="330120" cy="683280"/>
          </p:xfrm>
          <a:graphic>
            <a:graphicData uri="http://schemas.openxmlformats.org/presentationml/2006/ole">
              <p:oleObj r:id="rId5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54"/>
                    <a:stretch/>
                  </p:blipFill>
                  <p:spPr>
                    <a:xfrm>
                      <a:off x="5918040" y="4495680"/>
                      <a:ext cx="330120" cy="6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cxnSp>
        <p:nvCxnSpPr>
          <p:cNvPr id="157" name=""/>
          <p:cNvCxnSpPr/>
          <p:nvPr/>
        </p:nvCxnSpPr>
        <p:spPr>
          <a:xfrm flipV="1" rot="16200000">
            <a:off x="6087960" y="5035680"/>
            <a:ext cx="305640" cy="748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158" name=""/>
          <p:cNvGraphicFramePr/>
          <p:nvPr/>
        </p:nvGraphicFramePr>
        <p:xfrm>
          <a:off x="6095880" y="2743200"/>
          <a:ext cx="579600" cy="37152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6095880" y="2743200"/>
                    <a:ext cx="5796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556272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2895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305920" y="2285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934320" y="2438280"/>
          <a:ext cx="523800" cy="91440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6934320" y="2438280"/>
                    <a:ext cx="523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8229600" y="3733920"/>
          <a:ext cx="579600" cy="37152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8229600" y="3733920"/>
                    <a:ext cx="5796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8232120" y="3352680"/>
            <a:ext cx="5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56386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562720" y="5334120"/>
          <a:ext cx="1066680" cy="30456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5562720" y="5334120"/>
                    <a:ext cx="10666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module: scalesegment.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76120" y="920520"/>
            <a:ext cx="831240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* This module updates records in recordsets specified on the command line by rescaling segment “image” and recomputing its mean value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#include "jsoc_main.h"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Params_t default_params[] = {  {"alpha", NULL},   {"beta", NULL},    {NULL, NULL}}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 DoIt(void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 j,k, coun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RecordSet_t *oldrs, *newrs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Array_t *array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Segment_t *oldseg, *newseg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uble alpha, beta, *data, sum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pha = cmdparams_get_double(&amp;cmdparams, "alpha", &amp;status);  /* Read scaling parameter from command line. */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a = cmdparams_get_double(&amp;cmdparams, "beta", &amp;status);      /* Read offset parameter from command line. */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name = cmdparams_getarg(&amp;cmdparams,1);                               /* Get query string from command line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drs = drms_open_records(drms_env, rsname, &amp;status);              /* Query DRMS for record set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rs = drms_create_records(drms_env, oldrs-&gt;n,  oldrs-&gt;records[0]-&gt;seriesinfo.seriesname,  &amp;status); /* Create new record set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(j=0; j&lt;oldrs-&gt;n; j++)               /* Loop over records in record set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dseg = drms_segment_lookup(oldrs-&gt;records[I], “image”);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seg = drms_segment_lookup(newrs-&gt;records[i],”image”);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ay = drms_segment_read(oldseg, DRMS_TYPE_DOUBLE, &amp;status);   /* Read old segment, converting to double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= drms_array_count(array);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/* Get number of array elements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= array-&gt;data;  count = 0; sum = 0.0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(k=0; k&lt;n; k++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(data[k] != DRMS_MISSING_DOUBLE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++;  data[k] = alpha*data[k] + beta;  sum += data[k];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/* Scale array and and compute new statistics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setkey_double(newrs-&gt;records[j], “datamean”, sum/count);              /* Set datamean keyword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us = drms_segment_write(newseg, array);                                           /* Write array to new record segment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free_array(array)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close_records(oldrs, DRMS_DISCARD_RECORD);                             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close_records(newrs, DRMS_COMMIT_RECORD);                                  /* Close new record set, insert it into the database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OC Hardware configu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950760"/>
            <a:ext cx="914400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39600"/>
            <a:ext cx="6649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sub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1600" y="1038240"/>
            <a:ext cx="872172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S: Storage Unit Management Syste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s database of storage units and their location on disk and t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JSOC storage subsystems: Disk array, Robotic tape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rubs old data from disk cache to maintain enough free work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s and unloads tape to/from tape drives and robotic libr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cates disk storage needed by pipeline processes through D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storage units requested by pipeline processes through D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fea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PC client-server protoc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acle DBMS (to be migrated to PostgreSQ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MS: Data Record Management Syste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s database ho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er tables with definitions of all JSOC series and their keyword, link and data segment defin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e table per series containing record meta-data, e.g. keyword val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distributed transaction processing framework for pip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full meta-data searching through JSOC query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-column indexed searches on primary index values allows for fast and simple querying for common c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sion of free-form SQL clauses allows advanced query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software libraries for querying, creating, retrieving and storing JSOC series, data records and their keywords, links, and data se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 available in C. Wrappers (with read-only restriction?) for Fortran, Matlab and IDL are plann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fea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IP socket client-server protoc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greSQL DB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ony DB replication system to be added for managing query load and enabling multi-site distributed arch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600280" y="3876840"/>
            <a:ext cx="1467000" cy="78084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 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men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43040" y="3943440"/>
            <a:ext cx="1467000" cy="78084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 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men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peline software/hardware architectur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01040" y="3181320"/>
            <a:ext cx="914400" cy="609480"/>
          </a:xfrm>
          <a:prstGeom prst="flowChartMagneticDisk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SOC Di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9520" y="942840"/>
            <a:ext cx="3564000" cy="2589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85920" y="1009800"/>
            <a:ext cx="3562200" cy="26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89240" y="1717560"/>
            <a:ext cx="3252600" cy="347760"/>
          </a:xfrm>
          <a:prstGeom prst="flowChartProcess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peline program “modu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07960" y="3178080"/>
            <a:ext cx="3195720" cy="363600"/>
          </a:xfrm>
          <a:prstGeom prst="flowChart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rd Cache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Keywords+Links+Data path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469880" y="2093760"/>
            <a:ext cx="5040" cy="44136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317320" y="2909880"/>
            <a:ext cx="4680" cy="268200"/>
          </a:xfrm>
          <a:prstGeom prst="line">
            <a:avLst/>
          </a:prstGeom>
          <a:ln w="12600">
            <a:solidFill>
              <a:srgbClr val="00d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11600" y="2093760"/>
            <a:ext cx="0" cy="441360"/>
          </a:xfrm>
          <a:prstGeom prst="line">
            <a:avLst/>
          </a:prstGeom>
          <a:ln w="12600">
            <a:solidFill>
              <a:srgbClr val="ff373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98600" y="2544840"/>
            <a:ext cx="3224160" cy="365040"/>
          </a:xfrm>
          <a:prstGeom prst="flowChart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01840" y="2120760"/>
            <a:ext cx="108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nRec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oseRec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46400" y="2130480"/>
            <a:ext cx="16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tKeyword, SetKeyw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tLink, Set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76680" y="2130480"/>
            <a:ext cx="1216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nDataSeg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oseDataSeg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9240" y="2089080"/>
            <a:ext cx="0" cy="446040"/>
          </a:xfrm>
          <a:prstGeom prst="line">
            <a:avLst/>
          </a:prstGeom>
          <a:ln w="12600">
            <a:solidFill>
              <a:srgbClr val="00d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55920" y="2914560"/>
            <a:ext cx="4680" cy="2635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86720" y="3086280"/>
            <a:ext cx="914400" cy="609480"/>
          </a:xfrm>
          <a:prstGeom prst="flowChartMagneticDisk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SOC Di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00840" y="2933640"/>
            <a:ext cx="914400" cy="609840"/>
          </a:xfrm>
          <a:prstGeom prst="flowChartMagneticDisk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SOC Di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96240" y="2800440"/>
            <a:ext cx="914400" cy="609480"/>
          </a:xfrm>
          <a:prstGeom prst="flowChartMagneticDisk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SOC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24560" y="2724120"/>
            <a:ext cx="3271680" cy="428760"/>
          </a:xfrm>
          <a:prstGeom prst="line">
            <a:avLst/>
          </a:prstGeom>
          <a:ln w="12600">
            <a:solidFill>
              <a:srgbClr val="ff373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86160" y="4019400"/>
            <a:ext cx="1466640" cy="78120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 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men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57640" y="4000680"/>
            <a:ext cx="1600200" cy="83808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orage 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men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SU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19480" y="3524400"/>
            <a:ext cx="0" cy="49500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63040" y="4991040"/>
            <a:ext cx="1066680" cy="1047960"/>
          </a:xfrm>
          <a:prstGeom prst="flowChartMagneticTape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botic Ta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h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48480" y="4629240"/>
            <a:ext cx="1123920" cy="704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667560" y="3309840"/>
            <a:ext cx="122400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5048280"/>
            <a:ext cx="5867280" cy="1504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5524560"/>
            <a:ext cx="1066680" cy="876240"/>
          </a:xfrm>
          <a:prstGeom prst="flowChartInternalStorag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81320" y="5238720"/>
            <a:ext cx="1333440" cy="857160"/>
          </a:xfrm>
          <a:prstGeom prst="flowChartInternalStorag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al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81680" y="5581800"/>
            <a:ext cx="1352520" cy="799920"/>
          </a:xfrm>
          <a:prstGeom prst="flowChartInternalStorag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orag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00240" y="5372280"/>
            <a:ext cx="1333800" cy="857160"/>
          </a:xfrm>
          <a:prstGeom prst="flowChartInternalStorag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al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5524560"/>
            <a:ext cx="1333440" cy="857160"/>
          </a:xfrm>
          <a:prstGeom prst="flowChartInternalStorag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8640" y="5075280"/>
            <a:ext cx="7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733040" y="4800600"/>
            <a:ext cx="1295640" cy="72396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67160" y="4800600"/>
            <a:ext cx="361800" cy="4381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29480" y="4838760"/>
            <a:ext cx="0" cy="743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463860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77080" y="4108320"/>
            <a:ext cx="68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oc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t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ut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87000" y="5089680"/>
            <a:ext cx="8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QL qu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53280" y="4861080"/>
            <a:ext cx="8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QL qu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43880" y="5146560"/>
            <a:ext cx="8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QL qu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34400" y="3946680"/>
            <a:ext cx="122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orage unit trans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82520" y="2670120"/>
            <a:ext cx="109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 Segment I/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5320" y="4689360"/>
            <a:ext cx="122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orage unit trans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20000" y="2117880"/>
            <a:ext cx="57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67400" y="1871640"/>
            <a:ext cx="3228840" cy="105264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74840" y="3641760"/>
            <a:ext cx="139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MS socket protoc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72160" y="5048280"/>
            <a:ext cx="0" cy="1514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89240" y="1116000"/>
            <a:ext cx="1509480" cy="450720"/>
          </a:xfrm>
          <a:prstGeom prst="flowChart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SOC Sc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94200" y="1116000"/>
            <a:ext cx="1528560" cy="450720"/>
          </a:xfrm>
          <a:prstGeom prst="flowChart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ility Libr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133880" y="1781280"/>
            <a:ext cx="2085840" cy="3066840"/>
          </a:xfrm>
          <a:prstGeom prst="rect">
            <a:avLst/>
          </a:prstGeom>
          <a:solidFill>
            <a:srgbClr val="ddd4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Pipeline Workf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02080" y="5597640"/>
            <a:ext cx="1554120" cy="822240"/>
          </a:xfrm>
          <a:prstGeom prst="rect">
            <a:avLst/>
          </a:prstGeom>
          <a:solidFill>
            <a:srgbClr val="ff3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ag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4726080"/>
            <a:ext cx="1554120" cy="822240"/>
          </a:xfrm>
          <a:prstGeom prst="rect">
            <a:avLst/>
          </a:prstGeom>
          <a:solidFill>
            <a:srgbClr val="ff3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8" idx="0"/>
            <a:endCxn id="226" idx="2"/>
          </p:cNvCxnSpPr>
          <p:nvPr/>
        </p:nvCxnSpPr>
        <p:spPr>
          <a:xfrm flipH="1" flipV="1">
            <a:off x="5176080" y="4847760"/>
            <a:ext cx="3960" cy="75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422280" y="2687040"/>
            <a:ext cx="1309680" cy="12502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 Use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chedu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8840" y="1170000"/>
            <a:ext cx="1460520" cy="8125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processing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2" idx="2"/>
            <a:endCxn id="231" idx="0"/>
          </p:cNvCxnSpPr>
          <p:nvPr/>
        </p:nvCxnSpPr>
        <p:spPr>
          <a:xfrm flipH="1">
            <a:off x="1077480" y="1995480"/>
            <a:ext cx="1712160" cy="67392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2087640" y="2583000"/>
            <a:ext cx="1587600" cy="1463400"/>
          </a:xfrm>
          <a:prstGeom prst="flowChartProcess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ing script, “mapfil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ipeline modules with needed datasets for input,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306080"/>
            <a:ext cx="1285920" cy="103644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4"/>
            <a:endCxn id="231" idx="0"/>
          </p:cNvCxnSpPr>
          <p:nvPr/>
        </p:nvCxnSpPr>
        <p:spPr>
          <a:xfrm flipH="1">
            <a:off x="1077480" y="2176200"/>
            <a:ext cx="230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7" name=""/>
          <p:cNvCxnSpPr>
            <a:stCxn id="231" idx="3"/>
            <a:endCxn id="234" idx="1"/>
          </p:cNvCxnSpPr>
          <p:nvPr/>
        </p:nvCxnSpPr>
        <p:spPr>
          <a:xfrm>
            <a:off x="1731600" y="3312720"/>
            <a:ext cx="346680" cy="252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8" name=""/>
          <p:cNvCxnSpPr>
            <a:stCxn id="234" idx="3"/>
            <a:endCxn id="226" idx="1"/>
          </p:cNvCxnSpPr>
          <p:nvPr/>
        </p:nvCxnSpPr>
        <p:spPr>
          <a:xfrm>
            <a:off x="3684600" y="3314520"/>
            <a:ext cx="45000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9" name=""/>
          <p:cNvCxnSpPr>
            <a:stCxn id="231" idx="2"/>
            <a:endCxn id="229" idx="0"/>
          </p:cNvCxnSpPr>
          <p:nvPr/>
        </p:nvCxnSpPr>
        <p:spPr>
          <a:xfrm>
            <a:off x="1077480" y="3955680"/>
            <a:ext cx="5400" cy="77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6734160" y="3033720"/>
            <a:ext cx="1498680" cy="520200"/>
          </a:xfrm>
          <a:prstGeom prst="flowChartProcess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ing History 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0000" y="4002120"/>
            <a:ext cx="1554120" cy="822240"/>
          </a:xfrm>
          <a:prstGeom prst="rect">
            <a:avLst/>
          </a:prstGeom>
          <a:solidFill>
            <a:srgbClr val="ff3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24440" y="3165480"/>
            <a:ext cx="1150920" cy="57456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ul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2" idx="2"/>
            <a:endCxn id="241" idx="0"/>
          </p:cNvCxnSpPr>
          <p:nvPr/>
        </p:nvCxnSpPr>
        <p:spPr>
          <a:xfrm flipH="1">
            <a:off x="5187240" y="3740040"/>
            <a:ext cx="31356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4" name=""/>
          <p:cNvCxnSpPr>
            <a:stCxn id="245" idx="2"/>
            <a:endCxn id="241" idx="0"/>
          </p:cNvCxnSpPr>
          <p:nvPr/>
        </p:nvCxnSpPr>
        <p:spPr>
          <a:xfrm>
            <a:off x="5138280" y="3263400"/>
            <a:ext cx="50040" cy="7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4562640" y="2689200"/>
            <a:ext cx="1150920" cy="57456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ul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7" idx="2"/>
            <a:endCxn id="241" idx="0"/>
          </p:cNvCxnSpPr>
          <p:nvPr/>
        </p:nvCxnSpPr>
        <p:spPr>
          <a:xfrm>
            <a:off x="4824360" y="2816280"/>
            <a:ext cx="364320" cy="11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4248000" y="2241720"/>
            <a:ext cx="1150920" cy="57456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ule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18000" y="188748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MS s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26" idx="3"/>
            <a:endCxn id="240" idx="1"/>
          </p:cNvCxnSpPr>
          <p:nvPr/>
        </p:nvCxnSpPr>
        <p:spPr>
          <a:xfrm flipV="1">
            <a:off x="6219360" y="3293640"/>
            <a:ext cx="505800" cy="2160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0600" y="2352600"/>
            <a:ext cx="7829640" cy="3219480"/>
          </a:xfrm>
          <a:prstGeom prst="rect">
            <a:avLst/>
          </a:prstGeom>
          <a:solidFill>
            <a:srgbClr val="ddd4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39600"/>
            <a:ext cx="6649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Session: Pipeline transaction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61800" y="1199880"/>
            <a:ext cx="8087040" cy="119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DRMS session is encapsulated in a single database transaction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module fails all data records a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i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become visible to other clients of the JSOC catalog at the end of the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ilure occurs all data records are deleted and the databas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lled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possible to force DRMS to commit data produced so far during a sessions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ckpo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62160" y="4962600"/>
            <a:ext cx="4257720" cy="447480"/>
          </a:xfrm>
          <a:prstGeom prst="roundRect">
            <a:avLst>
              <a:gd name="adj" fmla="val 16667"/>
            </a:avLst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Service = Session 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83040" y="2227320"/>
            <a:ext cx="2425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92480" y="450360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da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25800" y="4503600"/>
            <a:ext cx="93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da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343240" y="3552480"/>
            <a:ext cx="0" cy="140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29040" y="3552840"/>
            <a:ext cx="0" cy="1400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07920" y="3292560"/>
            <a:ext cx="1032120" cy="29196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95320" y="2676600"/>
            <a:ext cx="103824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rt DR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36680" y="3273480"/>
            <a:ext cx="1032120" cy="29196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33440" y="2657520"/>
            <a:ext cx="103824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65440" y="4102200"/>
            <a:ext cx="1027080" cy="29196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62200" y="3486240"/>
            <a:ext cx="103356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 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72240" y="30369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51400" y="3263760"/>
            <a:ext cx="1036800" cy="29232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43480" y="2647800"/>
            <a:ext cx="1038240" cy="6098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62240" y="3591000"/>
            <a:ext cx="914400" cy="135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84840" y="3263760"/>
            <a:ext cx="1036800" cy="29232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76920" y="2647800"/>
            <a:ext cx="1038240" cy="6098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op D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238800" y="3552840"/>
            <a:ext cx="952560" cy="140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1560" y="235116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peline batch = atomic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038480" y="4371480"/>
            <a:ext cx="0" cy="60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91120" y="4371840"/>
            <a:ext cx="0" cy="600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772240" y="3533400"/>
            <a:ext cx="0" cy="140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3552840"/>
            <a:ext cx="0" cy="1400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52600" y="5829480"/>
            <a:ext cx="1162080" cy="609480"/>
          </a:xfrm>
          <a:prstGeom prst="flowChartAlternateProcess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rd &amp;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91240" y="5867280"/>
            <a:ext cx="914400" cy="609840"/>
          </a:xfrm>
          <a:prstGeom prst="flowChartAlternateProcess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924280" y="5410080"/>
            <a:ext cx="952560" cy="43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57680" y="5391000"/>
            <a:ext cx="60948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36800" y="2997360"/>
            <a:ext cx="1027440" cy="29196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3920" y="2381400"/>
            <a:ext cx="103320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 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334040" y="328572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95680" y="3276720"/>
            <a:ext cx="0" cy="1685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96840"/>
            <a:ext cx="7327800" cy="2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SOC Tape Block Diagra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33520" y="1143000"/>
            <a:ext cx="761760" cy="762120"/>
            <a:chOff x="533520" y="1143000"/>
            <a:chExt cx="761760" cy="762120"/>
          </a:xfrm>
        </p:grpSpPr>
        <p:sp>
          <p:nvSpPr>
            <p:cNvPr id="287" name=""/>
            <p:cNvSpPr/>
            <p:nvPr/>
          </p:nvSpPr>
          <p:spPr>
            <a:xfrm>
              <a:off x="533520" y="1143000"/>
              <a:ext cx="7617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3520" y="1219320"/>
              <a:ext cx="68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676520" y="1143000"/>
            <a:ext cx="761760" cy="762120"/>
            <a:chOff x="1676520" y="1143000"/>
            <a:chExt cx="761760" cy="762120"/>
          </a:xfrm>
        </p:grpSpPr>
        <p:sp>
          <p:nvSpPr>
            <p:cNvPr id="290" name=""/>
            <p:cNvSpPr/>
            <p:nvPr/>
          </p:nvSpPr>
          <p:spPr>
            <a:xfrm>
              <a:off x="1676520" y="1143000"/>
              <a:ext cx="7617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76520" y="1219320"/>
              <a:ext cx="68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808200" y="2506680"/>
            <a:ext cx="1447560" cy="609480"/>
            <a:chOff x="808200" y="2506680"/>
            <a:chExt cx="1447560" cy="609480"/>
          </a:xfrm>
        </p:grpSpPr>
        <p:sp>
          <p:nvSpPr>
            <p:cNvPr id="293" name=""/>
            <p:cNvSpPr/>
            <p:nvPr/>
          </p:nvSpPr>
          <p:spPr>
            <a:xfrm>
              <a:off x="808200" y="2506680"/>
              <a:ext cx="144756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36800" y="258264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m_sv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581280" y="2590920"/>
            <a:ext cx="1828800" cy="8380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_s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3886200"/>
            <a:ext cx="1828800" cy="8380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ot0_s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3886200"/>
            <a:ext cx="1828800" cy="8380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ot1_s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19320" y="5334120"/>
            <a:ext cx="2971800" cy="914400"/>
            <a:chOff x="1219320" y="5334120"/>
            <a:chExt cx="2971800" cy="914400"/>
          </a:xfrm>
        </p:grpSpPr>
        <p:sp>
          <p:nvSpPr>
            <p:cNvPr id="299" name=""/>
            <p:cNvSpPr/>
            <p:nvPr/>
          </p:nvSpPr>
          <p:spPr>
            <a:xfrm>
              <a:off x="1219320" y="5334120"/>
              <a:ext cx="1218960" cy="9144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ve0_s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1800" y="5334120"/>
              <a:ext cx="1219320" cy="9144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ve1_s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876920" y="5334120"/>
            <a:ext cx="2971800" cy="914400"/>
            <a:chOff x="4876920" y="5334120"/>
            <a:chExt cx="2971800" cy="914400"/>
          </a:xfrm>
        </p:grpSpPr>
        <p:sp>
          <p:nvSpPr>
            <p:cNvPr id="302" name=""/>
            <p:cNvSpPr/>
            <p:nvPr/>
          </p:nvSpPr>
          <p:spPr>
            <a:xfrm>
              <a:off x="4876920" y="5334120"/>
              <a:ext cx="1218960" cy="9144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ve0_s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629400" y="5334120"/>
              <a:ext cx="1219320" cy="9144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ve1_s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076640" y="1123920"/>
            <a:ext cx="9907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15200" y="2506680"/>
            <a:ext cx="14475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a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83640" y="6643800"/>
            <a:ext cx="125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SOC_Tape_Block_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95320" y="1911240"/>
            <a:ext cx="335160" cy="595440"/>
          </a:xfrm>
          <a:custGeom>
            <a:avLst/>
            <a:gdLst/>
            <a:ahLst/>
            <a:rect l="l" t="t" r="r" b="b"/>
            <a:pathLst>
              <a:path w="139" h="236">
                <a:moveTo>
                  <a:pt x="0" y="0"/>
                </a:moveTo>
                <a:lnTo>
                  <a:pt x="139" y="2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68320" y="1892160"/>
            <a:ext cx="308160" cy="614520"/>
          </a:xfrm>
          <a:custGeom>
            <a:avLst/>
            <a:gdLst/>
            <a:ahLst/>
            <a:rect l="l" t="t" r="r" b="b"/>
            <a:pathLst>
              <a:path w="191" h="248">
                <a:moveTo>
                  <a:pt x="191" y="0"/>
                </a:moveTo>
                <a:lnTo>
                  <a:pt x="0" y="2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66920" y="2852640"/>
            <a:ext cx="13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16560" y="2852640"/>
            <a:ext cx="9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572000" y="196956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7440" y="6305400"/>
            <a:ext cx="205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rols tape posit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read/wri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035160" y="3429000"/>
            <a:ext cx="96048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17960" y="3429000"/>
            <a:ext cx="88272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883880" y="4735440"/>
            <a:ext cx="614520" cy="61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09760" y="4708440"/>
            <a:ext cx="363600" cy="641520"/>
          </a:xfrm>
          <a:custGeom>
            <a:avLst/>
            <a:gdLst/>
            <a:ahLst/>
            <a:rect l="l" t="t" r="r" b="b"/>
            <a:pathLst>
              <a:path w="229" h="404">
                <a:moveTo>
                  <a:pt x="0" y="0"/>
                </a:moveTo>
                <a:lnTo>
                  <a:pt x="229" y="4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493960" y="4735440"/>
            <a:ext cx="26820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68920" y="4735440"/>
            <a:ext cx="614520" cy="61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8560" y="3121200"/>
            <a:ext cx="205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iginates read reques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22600" y="312120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iginates write reques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52400" y="3429000"/>
            <a:ext cx="220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ccess to all tape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0280" y="1969920"/>
            <a:ext cx="24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tatus &amp; robot to shelf contr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54960" y="4735440"/>
            <a:ext cx="17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lot to drive contr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20:04:10Z</dcterms:created>
  <dc:creator>Rasmus Munk Larsen</dc:creator>
  <dc:description/>
  <cp:keywords/>
  <dc:language>en-US</dc:language>
  <cp:lastModifiedBy>Rasmus Munk Larsen</cp:lastModifiedBy>
  <cp:lastPrinted>1997-10-08T17:14:34Z</cp:lastPrinted>
  <dcterms:modified xsi:type="dcterms:W3CDTF">2006-02-13T21:42:10Z</dcterms:modified>
  <cp:revision>61</cp:revision>
  <dc:subject>HMI System Requirements Review</dc:subject>
  <dc:title>JSOC Pipeline Processing: Infrastructure, Environment and Data Products</dc:title>
</cp:coreProperties>
</file>