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24.png" ContentType="image/png"/>
  <Override PartName="/ppt/media/image23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76320"/>
            <a:ext cx="7327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00280" y="6643800"/>
            <a:ext cx="284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mus Munk Larsen / Pipeline Processing </a:t>
            </a:r>
            <a:fld id="{2B9F0FC6-2E5D-484B-9DD3-7DDB789493F4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461280"/>
            <a:ext cx="238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6120" cy="816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01760" y="831960"/>
            <a:ext cx="8305560" cy="60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1480" y="880920"/>
            <a:ext cx="8305920" cy="60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317080" y="23760"/>
            <a:ext cx="7840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8.wmf"/><Relationship Id="rId6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Processing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and data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mus Munk Larsen, Stanford Univer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unk@quake.stanford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0-725-548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1800" y="6539040"/>
            <a:ext cx="238428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i  - Tape service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3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_get() API Call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055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Unit Management System (SUMS) AP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 *SUM_open(char *dbna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close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alloc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 storage unit on the di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ge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requested storage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u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a previously allocated storag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oll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if a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wai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until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: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d from MDI dataset concept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record level access to meta-data for queries and brow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modate more complex data models required by higher-level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design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learned from MDI: Separate meta-data (keywords) and 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ed to re-write large image files when only keywords change (lev1.8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-of-date keyword values in FITS headers - can bind to most recent values on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data access through query-like dataset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ccess in terms of (sets of) data records, which are the “atomic units” of a data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query specifying a set of data rec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1_V[#3000-#3020] (21 records from with known epoch and cad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0_fg[t_obs=2008-11-07_02:00:00/8h][cam=‘doppler’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 hours worth of filterg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and tape management must be transparent to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unking of data records into storage units for efficient tape/disk usage done intern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ly separate storage and meta-data (i.e. series &amp; record) databases: more modular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 data and modules will be migrated to use new stor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eta-data (keywords) in relationa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use power of relational database to rapidly find data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and fast to create time series of any keyword value (for trending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: Data records for a given series must be well defined (i.e. have a fixed set of key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SOC Data is organized according to a data model with the following cla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quence of like data records, typically data products produced by a particular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Owner , primary search index, Storage unit size, Stora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measurement/image/observation with associated meta-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D, Storage Unit ID, Storage Unit Slot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words, Links,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s are the main data objects seen by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meta-data value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ype, Value, Phys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d pointer from one record to another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arget series, target record id or primary index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apture data dependencies and processing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Seg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data container representing the primary data on disk belonging to a recor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ename, datatype, naxis, axis[0…naxis-1], storag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ither structure-less (any file) or n-dimensional array stored in tiled, compressed fil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Uni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hunk of data records from the same series stored in a single directory tr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: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line location, offline location, tape group, reten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by the Storage Unit Manager in a manner transparent to most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23760" y="2343240"/>
            <a:ext cx="142884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0_cam1_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8280" y="1638360"/>
            <a:ext cx="3809880" cy="47624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8320" y="12304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C Dat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23560" y="1230480"/>
            <a:ext cx="17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record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es hmi_lev1_fd_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58640" y="1230480"/>
            <a:ext cx="25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g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 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9640" y="2581200"/>
            <a:ext cx="1238400" cy="2095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cont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2781360"/>
            <a:ext cx="114300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3800" y="3019320"/>
            <a:ext cx="11620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960" y="3228840"/>
            <a:ext cx="1086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FE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05000" y="2562120"/>
            <a:ext cx="12574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90880" y="277164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57680" y="298116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32097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29080" y="3429000"/>
            <a:ext cx="125712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95520" y="36291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00480" y="383868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4160" y="343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864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8280" y="1581120"/>
            <a:ext cx="3827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ORDNUM = 12345    # Unique serial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IESNUM = 5531704   # Slots since epo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_OBS = ‘2009.01.05_23:22:40_TAI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IN = -2.537730543544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AX = 1.935749511719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_ANGLE = LINK:ORBIT,KEYWORD:SOLAR_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95600" y="2571840"/>
            <a:ext cx="1409400" cy="4572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5600" y="3276720"/>
            <a:ext cx="495000" cy="1218960"/>
          </a:xfrm>
          <a:custGeom>
            <a:avLst/>
            <a:gdLst/>
            <a:ahLst/>
            <a:rect l="l" t="t" r="r" b="b"/>
            <a:pathLst>
              <a:path w="312" h="768">
                <a:moveTo>
                  <a:pt x="0" y="0"/>
                </a:moveTo>
                <a:lnTo>
                  <a:pt x="312" y="76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0068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62480" y="1628640"/>
            <a:ext cx="685800" cy="943200"/>
          </a:xfrm>
          <a:custGeom>
            <a:avLst/>
            <a:gdLst/>
            <a:ahLst/>
            <a:rect l="l" t="t" r="r" b="b"/>
            <a:pathLst>
              <a:path w="432" h="594">
                <a:moveTo>
                  <a:pt x="0" y="594"/>
                </a:move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62480" y="2805120"/>
            <a:ext cx="685800" cy="3595680"/>
          </a:xfrm>
          <a:custGeom>
            <a:avLst/>
            <a:gdLst/>
            <a:ahLst/>
            <a:rect l="l" t="t" r="r" b="b"/>
            <a:pathLst>
              <a:path w="432" h="2265">
                <a:moveTo>
                  <a:pt x="0" y="0"/>
                </a:moveTo>
                <a:lnTo>
                  <a:pt x="432" y="22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8360" y="3848040"/>
            <a:ext cx="590760" cy="857160"/>
          </a:xfrm>
          <a:custGeom>
            <a:avLst/>
            <a:gdLst/>
            <a:ahLst/>
            <a:rect l="l" t="t" r="r" b="b"/>
            <a:pathLst>
              <a:path w="372" h="540">
                <a:moveTo>
                  <a:pt x="144" y="0"/>
                </a:moveTo>
                <a:lnTo>
                  <a:pt x="372" y="540"/>
                </a:lnTo>
                <a:lnTo>
                  <a:pt x="0" y="4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64000" y="4649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8400" y="3241800"/>
            <a:ext cx="340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50440" y="3157560"/>
            <a:ext cx="29757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BIT = hmi_lev0_orbit, SERIESNUM = 221268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LTABLE = hmi_lev0_dopcal, RECORDNUM =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1 = hmi_lev0_cam1_fg, RECORDNUM = 42345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1 = hmi_lev0_cam1_fg, RECORDNUM = 423452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50080" y="4205160"/>
            <a:ext cx="178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eg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_DOPPLER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05080" y="404820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90600" y="4257720"/>
            <a:ext cx="125748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008760" y="4600440"/>
            <a:ext cx="1774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eries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12600" y="1030320"/>
            <a:ext cx="91566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atabase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4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tables for example series hmi_fd_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395360" y="3135240"/>
            <a:ext cx="4562640" cy="3181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20760" y="1190520"/>
            <a:ext cx="8312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s specific for each series contain per record valu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numbers of records pointed to by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Index = an index identifying the SUMS storage unit containing the data segments of a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sequence counter used for generating unique record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Internal file format: Tiled Array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524560" y="1657440"/>
          <a:ext cx="3076560" cy="1942920"/>
        </p:xfrm>
        <a:graphic>
          <a:graphicData uri="http://schemas.openxmlformats.org/drawingml/2006/table">
            <a:tbl>
              <a:tblPr/>
              <a:tblGrid>
                <a:gridCol w="1560600"/>
                <a:gridCol w="1515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MS TA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ytes of mag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x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ksz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395280" y="2100240"/>
            <a:ext cx="2223720" cy="857160"/>
            <a:chOff x="395280" y="2100240"/>
            <a:chExt cx="2223720" cy="857160"/>
          </a:xfrm>
        </p:grpSpPr>
        <p:grpSp>
          <p:nvGrpSpPr>
            <p:cNvPr id="377" name=""/>
            <p:cNvGrpSpPr/>
            <p:nvPr/>
          </p:nvGrpSpPr>
          <p:grpSpPr>
            <a:xfrm>
              <a:off x="733680" y="2100240"/>
              <a:ext cx="1885320" cy="514440"/>
              <a:chOff x="733680" y="2100240"/>
              <a:chExt cx="1885320" cy="514440"/>
            </a:xfrm>
          </p:grpSpPr>
          <p:sp>
            <p:nvSpPr>
              <p:cNvPr id="378" name=""/>
              <p:cNvSpPr/>
              <p:nvPr/>
            </p:nvSpPr>
            <p:spPr>
              <a:xfrm>
                <a:off x="7336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808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380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764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7000" y="2271600"/>
              <a:ext cx="1885320" cy="514440"/>
              <a:chOff x="567000" y="2271600"/>
              <a:chExt cx="1885320" cy="514440"/>
            </a:xfrm>
          </p:grpSpPr>
          <p:sp>
            <p:nvSpPr>
              <p:cNvPr id="383" name=""/>
              <p:cNvSpPr/>
              <p:nvPr/>
            </p:nvSpPr>
            <p:spPr>
              <a:xfrm>
                <a:off x="5670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141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13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098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95280" y="2443320"/>
              <a:ext cx="1886040" cy="514080"/>
              <a:chOff x="395280" y="2443320"/>
              <a:chExt cx="1886040" cy="514080"/>
            </a:xfrm>
          </p:grpSpPr>
          <p:sp>
            <p:nvSpPr>
              <p:cNvPr id="388" name=""/>
              <p:cNvSpPr/>
              <p:nvPr/>
            </p:nvSpPr>
            <p:spPr>
              <a:xfrm>
                <a:off x="39528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27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999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3844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395280" y="1690560"/>
            <a:ext cx="2223720" cy="857160"/>
            <a:chOff x="395280" y="1690560"/>
            <a:chExt cx="2223720" cy="857160"/>
          </a:xfrm>
        </p:grpSpPr>
        <p:grpSp>
          <p:nvGrpSpPr>
            <p:cNvPr id="393" name=""/>
            <p:cNvGrpSpPr/>
            <p:nvPr/>
          </p:nvGrpSpPr>
          <p:grpSpPr>
            <a:xfrm>
              <a:off x="733680" y="1690560"/>
              <a:ext cx="1885320" cy="514440"/>
              <a:chOff x="733680" y="1690560"/>
              <a:chExt cx="1885320" cy="514440"/>
            </a:xfrm>
          </p:grpSpPr>
          <p:sp>
            <p:nvSpPr>
              <p:cNvPr id="394" name=""/>
              <p:cNvSpPr/>
              <p:nvPr/>
            </p:nvSpPr>
            <p:spPr>
              <a:xfrm>
                <a:off x="7336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808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380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764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67000" y="1861920"/>
              <a:ext cx="1885320" cy="514440"/>
              <a:chOff x="567000" y="1861920"/>
              <a:chExt cx="1885320" cy="514440"/>
            </a:xfrm>
          </p:grpSpPr>
          <p:sp>
            <p:nvSpPr>
              <p:cNvPr id="399" name=""/>
              <p:cNvSpPr/>
              <p:nvPr/>
            </p:nvSpPr>
            <p:spPr>
              <a:xfrm>
                <a:off x="5670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141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713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098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95280" y="2033640"/>
              <a:ext cx="1886040" cy="514080"/>
              <a:chOff x="395280" y="2033640"/>
              <a:chExt cx="1886040" cy="514080"/>
            </a:xfrm>
          </p:grpSpPr>
          <p:sp>
            <p:nvSpPr>
              <p:cNvPr id="404" name=""/>
              <p:cNvSpPr/>
              <p:nvPr/>
            </p:nvSpPr>
            <p:spPr>
              <a:xfrm>
                <a:off x="39528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27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99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3844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73332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811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383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7648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664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144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716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31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003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3844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6120" y="309096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519880" y="3586320"/>
          <a:ext cx="3081240" cy="2819160"/>
        </p:xfrm>
        <a:graphic>
          <a:graphicData uri="http://schemas.openxmlformats.org/drawingml/2006/table">
            <a:tbl>
              <a:tblPr/>
              <a:tblGrid>
                <a:gridCol w="1557360"/>
                <a:gridCol w="152388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index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eap offset, compressed size, Adler32 checksum) for each bloc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64, int64, int32)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ed data for each b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 bit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5569200" y="121140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format (little endia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8560" y="324792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560" y="547704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67080" y="4362480"/>
            <a:ext cx="124776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e &amp; Co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7" idx="3"/>
            <a:endCxn id="423" idx="0"/>
          </p:cNvCxnSpPr>
          <p:nvPr/>
        </p:nvCxnSpPr>
        <p:spPr>
          <a:xfrm>
            <a:off x="1050840" y="2157120"/>
            <a:ext cx="107280" cy="109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0" idx="2"/>
          </p:cNvCxnSpPr>
          <p:nvPr/>
        </p:nvCxnSpPr>
        <p:spPr>
          <a:xfrm flipV="1">
            <a:off x="1685880" y="3412800"/>
            <a:ext cx="1200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5" idx="0"/>
          </p:cNvCxnSpPr>
          <p:nvPr/>
        </p:nvCxnSpPr>
        <p:spPr>
          <a:xfrm flipH="1">
            <a:off x="3090240" y="3605040"/>
            <a:ext cx="3960" cy="758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952560" y="4336920"/>
            <a:ext cx="542880" cy="514440"/>
          </a:xfrm>
          <a:prstGeom prst="cube">
            <a:avLst>
              <a:gd name="adj" fmla="val 25000"/>
            </a:avLst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3"/>
            <a:endCxn id="424" idx="0"/>
          </p:cNvCxnSpPr>
          <p:nvPr/>
        </p:nvCxnSpPr>
        <p:spPr>
          <a:xfrm flipH="1">
            <a:off x="1156680" y="4851360"/>
            <a:ext cx="396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1"/>
            <a:endCxn id="429" idx="5"/>
          </p:cNvCxnSpPr>
          <p:nvPr/>
        </p:nvCxnSpPr>
        <p:spPr>
          <a:xfrm flipH="1">
            <a:off x="1494720" y="4529160"/>
            <a:ext cx="9723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 flipV="1">
            <a:off x="2319480" y="5605560"/>
            <a:ext cx="102852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4" idx="3"/>
            <a:endCxn id="432" idx="2"/>
          </p:cNvCxnSpPr>
          <p:nvPr/>
        </p:nvCxnSpPr>
        <p:spPr>
          <a:xfrm>
            <a:off x="1685880" y="5643720"/>
            <a:ext cx="6343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905280" y="548640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4"/>
            <a:endCxn id="434" idx="1"/>
          </p:cNvCxnSpPr>
          <p:nvPr/>
        </p:nvCxnSpPr>
        <p:spPr>
          <a:xfrm>
            <a:off x="3316320" y="5651640"/>
            <a:ext cx="589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 flipV="1">
            <a:off x="5919840" y="5605560"/>
            <a:ext cx="109548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2"/>
          </p:cNvCxnSpPr>
          <p:nvPr/>
        </p:nvCxnSpPr>
        <p:spPr>
          <a:xfrm flipV="1">
            <a:off x="4962240" y="5651280"/>
            <a:ext cx="957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3"/>
          </p:cNvCxnSpPr>
          <p:nvPr/>
        </p:nvCxnSpPr>
        <p:spPr>
          <a:xfrm flipV="1">
            <a:off x="4962600" y="4026960"/>
            <a:ext cx="558000" cy="162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360" y="1047240"/>
            <a:ext cx="836316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, tape robot GUI,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data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objects: series, records, keywords, links, segmen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set naming and query 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orage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et names = DRMS query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760" y="1114560"/>
            <a:ext cx="8877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&gt;  ::= &lt;SeriesName&gt; &lt;RecordSet_Filte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SeriesName&gt; ::=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_Filter&gt; ::= '[' (&lt;RecordList&gt; | &lt;RecordQuery&gt; ) ']'   { &lt;RecordSet_Filter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Query&gt; ::= '?' &lt;SQL where clause&gt; '?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List&gt; ::= ( ':'&lt;RecnumRangeSet&gt;   |   {&lt;Primekey_Name&gt;'='}&lt;Primekey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numRangeSet&gt; ::= &lt;IndexRang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_Name&gt; ::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RangeSet&gt; ::= (  &lt;IndexRangeSet&gt; | &lt;Value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IndexRangeSet&gt; ::= ( '#' &lt;Integer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-' '#' &lt;Integer&gt; { '@' &lt;Integer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/' &lt;Integer&gt; { '@' &lt;Integer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{ ',' &lt;Index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RangeSet&gt; ::= ( &lt;Value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-' &lt;Value&gt; { '@' &lt;Value_Increment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/' &lt;Value_Increment&gt; { '@' &lt;Value_Increment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{ ',' &lt;Value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::= &lt;Integer&gt; | &lt;Real&gt; | &lt;Time&gt; | '&lt;String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_Increment&gt; ::= &lt;Integer&gt; | &lt;Real&gt; | &lt;Time_Incr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&gt; ::= &lt;Real&gt;&lt;Time_Increment_Specifi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_Specifier&gt; ::= 's' | 'm' | 'h' | '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value range queries (primary key=t_ob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t_obs=2009-11-01_00:00:00-2009-11-01-00:59:59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2009-11-01/1h]                           (primary key impli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,2009-12-01/3h]   (multiple interva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@3m]                    (subsampling)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valued primary key (t_obs,lat,lo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YYY[2009-11-01_03:00:00/8h][-45-45][10-4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ly spaced time series (t_obs_epoch and t_obs_step must be presen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t_obs=#7532-#7731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#7532/200@1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form SQL where-claus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VVV[2009-11-01/1h][$ datamean&gt;7.5 AND lat*lat+long*long&lt;27 $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olute record nu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VVV[:#43214432-#4321446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 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5200" y="1057320"/>
            <a:ext cx="8648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open_records(DRMS_Env_t *env, char *dataset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 a recordset specified by the dataset name. The datasetname is translated into an SQL query. The matchin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s are retrieved, inserted into the record cache and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reate_records(DRMS_Env_t *env, int n, char *seriesname,  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a new set of n new records with unique record IDs. Assign keywords &amp; links their default values specifi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series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lone_records(DRMS_RecordSet_t *recset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a set of records: Create a new set of n new records with unique record ID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keywords, link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gments their values fro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cord set given as inpu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mode = DRMS_SHARE_SEGMENTS the clones inherit their data segments, which cannot be modified,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ir parent. If mode=DRMS_COPY_SEGMENTS the clones are assigned a new storage unit slot and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 their parent’s storage unit slot is copied there and can be modified at wi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s(DRMS_RecordSet_t *rs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 a set of records and free them from the record cac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all_records(DRMS_Env_t *env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ecutes drms_close_record for all records in the record cache that are not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3360" y="1057320"/>
            <a:ext cx="861048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reate_record(DRMS_Env_t *env, char *series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lone_record(DRMS_Record_t *oldrec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(DRMS_Record_t *rec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, clone and close functions for  a singl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*drms_record_fopen(DRMS_Record_t *rec, char *filename, const char *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ks DRMS to open or create a file in the directory (storage unit slot)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ata record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for the regular fopen mode = “r”, “w”, or “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record_directory(DRMS_Record_t *rec, char *path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the full path of the directory (storage unit slo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to this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 drms_record_print(DRMS_Record_t *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Pretty" print the contents of a record data structure to stdo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008000"/>
            <a:ext cx="8638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drms_getkey_char(DRMS_Record_t *rec, const char *key,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rt drms_getkey_shor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getkey_in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getkey_longlo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at drms_getkey_floa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uble drms_getkey_double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*drms_getkey_stri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the value of  a keyword converted from its internal type (specified in the series definition) to the desire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 type. If status!=NULL the return cod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SUCC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ype conversion was successful with no loss of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INEXACT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within the range of the target, but some loss of information occu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e to round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RANGE: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outside the range of the target type. The standard missing value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BADSTRING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converting from a string, the contents of the string did not match a valid consta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UNKNOWNKEYWORD: No such keyw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char(DRMS_Record_t *rec, const char *key, char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hort(DRMS_Record_t *rec, const char *key, shor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int(DRMS_Record_t *rec, const char *key, in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longlong(DRMS_Record_t *rec, const char *key, long long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float(DRMS_Record_t *rec, const char *key, floa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double(DRMS_Record_t *rec, const char *key, double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tring(DRMS_Record_t *rec, const char *key, char *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he value of a keyword, converting the given value to the internal type of the keyword. Return codes as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85680"/>
            <a:ext cx="8839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link_follow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, retrieve the record and return a pointer to it. If the link is dynamic the recor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ighest record number out of those with values of the primary index keywords matching those in the lin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link_followall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s, retrieve them and return them in a RecordSet_t struct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 link is dynamic the function returns all records with values of the primary index keywords ma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se in the link. If the link is static only a single record is contained in the Record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static(DRMS_Record_t *rec, const char *linkname, int rec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static link to point to the record with absolute record number "recnum" in the target series of the li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dynamic(DRMS_Record_t *rec, const char *linkname, DRMS_Type_t *typ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Type_Value_t *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dynamic link to point to the record(s) with primary index values matching those given in the "types"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values" arrays. When a dynamic link is resolved, records matching these primary index values are sel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linkrecords(DRMS_Record_t *src_rec, char *linkname, DRMS_Record_t *dst_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link in the source record to point to the destination record. An error code is returned if the destination rec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belong to the target series of the named link in the sourc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5200" y="923760"/>
            <a:ext cx="8848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(DRMS_Segment_t *seg, DRMS_Type_t typ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the contents of a data segment into an array structure, converting  it to the specified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)  If the corresponding data file exists and type!=DRMS_TYPE_RAW,  then read the entire data array into mem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it  to the type  given as argument and transform the data according to bzero and bscale. The array struct w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ve israw==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)  If the corresponding data file exists and type=DRMS_TYPE_RAW then the data is read into an array of the s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as it is stored on disk with no scaling. The array struct will have israw==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 If the data file does not exist, then return a data array filed with  the MISSING value specified for the seg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ields arr-&gt;bzero and arr-&gt;bscale are set to the values that apply to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related to the type conversion are as for the setkey/getkey family of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slice(DRMS_Segment_t *seg, DRMS_Type_t type,  int *start, int *en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a slice from a data segment file. The start offsets will be copied to the array struct such that mapping back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ent segment array is possible. Type conversion and scaling is performed as in drms_segment_re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write(DRMS_Segment_t *seg, 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an array to a segment file. The number and size of dimensions of the array must match  those of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ta values are scaled and converted to the representation determined by the segment’s bzero, bscal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. The values of arr-&gt;bzero, arr-&gt;bscale, arr-&gt;israw are used to determine  how to properly scale the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e distinct cases ari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arr-&gt;israw==0:  (The values in the array have been scaled to their "true“ value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1.0 / bscale) * y  - bzero / bscale       (y = value in array, x = value written to 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arr-&gt;israw==1 and arr-&gt;bscale==bscale and arr-&gt;bzero==bzer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arr-&gt;israw==1 and (arr-&gt;bscale!=bscale or arr-&gt;bzero==bzer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arr-&gt;bscale/bscale)*y + (arr-&gt;bzero-bzero)/b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 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5840" y="979560"/>
            <a:ext cx="8858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setscaling(DRMS_Segment_t *seg, double bzero, double 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segment scaling. Can only be done for an array segment and only when creating a new record. Otherwis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DRMS_ERROR_INVALIDACTION and DRMS_ERROR_RECORDREADONLY are retur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ective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getscaling(DRMS_Segment_t *seg, double *bzero, double *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scaling for a segment. If the segment is not an array segment an erro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INVALIDACTION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s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g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(DRMS_Record_t *rec, const char *seg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num(DRMS_Record_t *rec, int seg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filename(DRMS_Segment_t *seg, char *file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absolute path to segment file in file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Array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961920"/>
            <a:ext cx="8820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reate(DRMS_Type_t type, int naxis, int *axis, void *data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 an array struct from its constituent parts. If data==NULL then allocate a new array and fill it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onvert(DRMS_Type_t dsttype, double bzero, double bsca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array from one DRMS type to another with scal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slice(int *start, int *end, 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out a hyper-slab of an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permute(DRMS_Array_t *src, int *perm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range the array elements such that the dimensions are ordered according to the permutation given in "perm"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generalization of the matrix transpose operator to n dimens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array2missing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entire array to MISSING according to arr-&gt;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count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total number of entries in an n-dimensional arr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size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size in bytes of an n-dimensional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oor man’s subset of Fortran 90/Matlab without the syntactic suga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module: Export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8760" y="933480"/>
            <a:ext cx="836928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include "jsoc_main.h"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Params_t default_params[] = {{NULL, NULL}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DoIt(voi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i, j, statu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Set_t *r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_t *rec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 *rsnam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name = cmdparams_getarg(&amp;cmdparams,i++))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 = drms_open_records(drms_env, rsname, &amp;status);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(j=0; j&lt;rs-&gt;n; j++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rs-&gt;records[j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rintf(filename,“%06d.fits”,j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2FITS(rec,filename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s(rs, DRMS_DISCARD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(“idl analyze_this.idl”); /* A miracle occurs.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drms_create_record(drms_env, “my_data_series”, &amp;status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FITS2record(“result.fits”, rec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(drms_env, rec, DRMS_COMMIT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1219320"/>
            <a:ext cx="167616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219320"/>
            <a:ext cx="20574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219320"/>
            <a:ext cx="281952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181480"/>
            <a:ext cx="3962160" cy="114012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OC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27240" y="1503360"/>
          <a:ext cx="38556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503360"/>
                    <a:ext cx="3855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14400" y="9144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800" y="19191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1447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35400" y="5243400"/>
          <a:ext cx="6112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5400" y="5243400"/>
                    <a:ext cx="611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81080" y="1371600"/>
          <a:ext cx="8398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37160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379520" y="1427040"/>
          <a:ext cx="38592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9520" y="1427040"/>
                    <a:ext cx="3859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712880" y="19350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00400" y="1523880"/>
            <a:ext cx="761760" cy="888840"/>
            <a:chOff x="3200400" y="1523880"/>
            <a:chExt cx="761760" cy="888840"/>
          </a:xfrm>
        </p:grpSpPr>
        <p:graphicFrame>
          <p:nvGraphicFramePr>
            <p:cNvPr id="68" name=""/>
            <p:cNvGraphicFramePr/>
            <p:nvPr/>
          </p:nvGraphicFramePr>
          <p:xfrm>
            <a:off x="3200400" y="1729800"/>
            <a:ext cx="329760" cy="68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0400" y="17298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361680" y="1653120"/>
            <a:ext cx="330120" cy="68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1680" y="16531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496320" y="1575720"/>
            <a:ext cx="330120" cy="68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6320" y="15757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632040" y="1523880"/>
            <a:ext cx="330120" cy="683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32040" y="15238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6" name=""/>
          <p:cNvGraphicFramePr/>
          <p:nvPr/>
        </p:nvGraphicFramePr>
        <p:xfrm>
          <a:off x="3505320" y="2819520"/>
          <a:ext cx="57924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2819520"/>
                    <a:ext cx="579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53080" y="1523880"/>
          <a:ext cx="881280" cy="97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1523880"/>
                    <a:ext cx="8812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29200" y="2133720"/>
          <a:ext cx="839880" cy="1287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29200" y="213372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934400" y="1724040"/>
          <a:ext cx="1209600" cy="72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34400" y="1724040"/>
                    <a:ext cx="12096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4008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5680" y="3994200"/>
            <a:ext cx="1757520" cy="10350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98720" y="4024440"/>
          <a:ext cx="385560" cy="799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98720" y="4024440"/>
                    <a:ext cx="3855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849240" y="4811760"/>
          <a:ext cx="1067040" cy="377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49240" y="4811760"/>
                    <a:ext cx="1067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520" y="38862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43974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35000" y="4111560"/>
          <a:ext cx="519120" cy="558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35000" y="4111560"/>
                    <a:ext cx="519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17560" y="4684680"/>
          <a:ext cx="1067040" cy="37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7560" y="4684680"/>
                    <a:ext cx="10670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87640" y="36846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5257800"/>
          <a:ext cx="1828800" cy="1065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120" y="5257800"/>
                    <a:ext cx="1828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30720" y="5459400"/>
          <a:ext cx="744480" cy="500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330720" y="5459400"/>
                    <a:ext cx="744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9880" y="312408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2354400" y="4400280"/>
            <a:ext cx="1249920" cy="106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2039400" y="565632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2743200" cy="19764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4495680"/>
          <a:ext cx="876600" cy="9730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553080" y="4495680"/>
                    <a:ext cx="876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315200" y="5257800"/>
          <a:ext cx="611280" cy="1066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15200" y="5257800"/>
                    <a:ext cx="611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041720" y="56340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3200" y="5635800"/>
            <a:ext cx="8413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534520" y="236196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2320" y="2341440"/>
          <a:ext cx="1066680" cy="378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922320" y="2341440"/>
                    <a:ext cx="1066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76720" y="2362320"/>
          <a:ext cx="1066680" cy="37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76720" y="2362320"/>
                    <a:ext cx="10666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9160" y="373392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5562720"/>
          <a:ext cx="579600" cy="371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324480" y="55627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7816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60440" y="1560240"/>
            <a:ext cx="945720" cy="709920"/>
            <a:chOff x="4060440" y="1560240"/>
            <a:chExt cx="945720" cy="709920"/>
          </a:xfrm>
        </p:grpSpPr>
        <p:sp>
          <p:nvSpPr>
            <p:cNvPr id="126" name=""/>
            <p:cNvSpPr/>
            <p:nvPr/>
          </p:nvSpPr>
          <p:spPr>
            <a:xfrm>
              <a:off x="4238640" y="1560240"/>
              <a:ext cx="666720" cy="524160"/>
            </a:xfrm>
            <a:custGeom>
              <a:avLst/>
              <a:gdLst/>
              <a:ahLst/>
              <a:rect l="l" t="t" r="r" b="b"/>
              <a:pathLst>
                <a:path w="420" h="330">
                  <a:moveTo>
                    <a:pt x="0" y="316"/>
                  </a:moveTo>
                  <a:lnTo>
                    <a:pt x="52" y="316"/>
                  </a:lnTo>
                  <a:lnTo>
                    <a:pt x="52" y="13"/>
                  </a:lnTo>
                  <a:lnTo>
                    <a:pt x="0" y="13"/>
                  </a:lnTo>
                  <a:lnTo>
                    <a:pt x="0" y="316"/>
                  </a:lnTo>
                  <a:close/>
                  <a:moveTo>
                    <a:pt x="52" y="330"/>
                  </a:moveTo>
                  <a:lnTo>
                    <a:pt x="368" y="330"/>
                  </a:lnTo>
                  <a:lnTo>
                    <a:pt x="368" y="0"/>
                  </a:lnTo>
                  <a:lnTo>
                    <a:pt x="52" y="0"/>
                  </a:lnTo>
                  <a:lnTo>
                    <a:pt x="52" y="330"/>
                  </a:lnTo>
                  <a:close/>
                  <a:moveTo>
                    <a:pt x="368" y="316"/>
                  </a:moveTo>
                  <a:lnTo>
                    <a:pt x="420" y="316"/>
                  </a:lnTo>
                  <a:lnTo>
                    <a:pt x="420" y="13"/>
                  </a:lnTo>
                  <a:lnTo>
                    <a:pt x="368" y="13"/>
                  </a:lnTo>
                  <a:lnTo>
                    <a:pt x="368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38640" y="1581120"/>
              <a:ext cx="8244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21080" y="1560240"/>
              <a:ext cx="501480" cy="5241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22560" y="1581120"/>
              <a:ext cx="8280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1593720"/>
              <a:ext cx="406440" cy="458640"/>
            </a:xfrm>
            <a:custGeom>
              <a:avLst/>
              <a:gdLst/>
              <a:ahLst/>
              <a:rect l="l" t="t" r="r" b="b"/>
              <a:pathLst>
                <a:path w="256" h="289">
                  <a:moveTo>
                    <a:pt x="0" y="289"/>
                  </a:moveTo>
                  <a:lnTo>
                    <a:pt x="158" y="289"/>
                  </a:lnTo>
                  <a:lnTo>
                    <a:pt x="158" y="275"/>
                  </a:lnTo>
                  <a:lnTo>
                    <a:pt x="0" y="275"/>
                  </a:lnTo>
                  <a:lnTo>
                    <a:pt x="0" y="289"/>
                  </a:lnTo>
                  <a:close/>
                  <a:moveTo>
                    <a:pt x="0" y="261"/>
                  </a:moveTo>
                  <a:lnTo>
                    <a:pt x="158" y="261"/>
                  </a:lnTo>
                  <a:lnTo>
                    <a:pt x="158" y="247"/>
                  </a:lnTo>
                  <a:lnTo>
                    <a:pt x="0" y="247"/>
                  </a:lnTo>
                  <a:lnTo>
                    <a:pt x="0" y="261"/>
                  </a:lnTo>
                  <a:close/>
                  <a:moveTo>
                    <a:pt x="0" y="233"/>
                  </a:moveTo>
                  <a:lnTo>
                    <a:pt x="158" y="233"/>
                  </a:lnTo>
                  <a:lnTo>
                    <a:pt x="158" y="220"/>
                  </a:lnTo>
                  <a:lnTo>
                    <a:pt x="0" y="220"/>
                  </a:lnTo>
                  <a:lnTo>
                    <a:pt x="0" y="233"/>
                  </a:lnTo>
                  <a:close/>
                  <a:moveTo>
                    <a:pt x="0" y="206"/>
                  </a:moveTo>
                  <a:lnTo>
                    <a:pt x="158" y="206"/>
                  </a:lnTo>
                  <a:lnTo>
                    <a:pt x="158" y="192"/>
                  </a:lnTo>
                  <a:lnTo>
                    <a:pt x="0" y="192"/>
                  </a:lnTo>
                  <a:lnTo>
                    <a:pt x="0" y="206"/>
                  </a:lnTo>
                  <a:close/>
                  <a:moveTo>
                    <a:pt x="0" y="179"/>
                  </a:moveTo>
                  <a:lnTo>
                    <a:pt x="158" y="179"/>
                  </a:lnTo>
                  <a:lnTo>
                    <a:pt x="158" y="165"/>
                  </a:lnTo>
                  <a:lnTo>
                    <a:pt x="0" y="165"/>
                  </a:lnTo>
                  <a:lnTo>
                    <a:pt x="0" y="179"/>
                  </a:lnTo>
                  <a:close/>
                  <a:moveTo>
                    <a:pt x="0" y="151"/>
                  </a:moveTo>
                  <a:lnTo>
                    <a:pt x="158" y="151"/>
                  </a:lnTo>
                  <a:lnTo>
                    <a:pt x="158" y="137"/>
                  </a:lnTo>
                  <a:lnTo>
                    <a:pt x="0" y="137"/>
                  </a:lnTo>
                  <a:lnTo>
                    <a:pt x="0" y="151"/>
                  </a:lnTo>
                  <a:close/>
                  <a:moveTo>
                    <a:pt x="0" y="124"/>
                  </a:moveTo>
                  <a:lnTo>
                    <a:pt x="158" y="124"/>
                  </a:lnTo>
                  <a:lnTo>
                    <a:pt x="158" y="110"/>
                  </a:lnTo>
                  <a:lnTo>
                    <a:pt x="0" y="110"/>
                  </a:lnTo>
                  <a:lnTo>
                    <a:pt x="0" y="124"/>
                  </a:lnTo>
                  <a:close/>
                  <a:moveTo>
                    <a:pt x="0" y="96"/>
                  </a:moveTo>
                  <a:lnTo>
                    <a:pt x="158" y="96"/>
                  </a:lnTo>
                  <a:lnTo>
                    <a:pt x="158" y="82"/>
                  </a:lnTo>
                  <a:lnTo>
                    <a:pt x="0" y="82"/>
                  </a:lnTo>
                  <a:lnTo>
                    <a:pt x="0" y="96"/>
                  </a:lnTo>
                  <a:close/>
                  <a:moveTo>
                    <a:pt x="0" y="68"/>
                  </a:moveTo>
                  <a:lnTo>
                    <a:pt x="158" y="68"/>
                  </a:lnTo>
                  <a:lnTo>
                    <a:pt x="158" y="54"/>
                  </a:lnTo>
                  <a:lnTo>
                    <a:pt x="0" y="54"/>
                  </a:lnTo>
                  <a:lnTo>
                    <a:pt x="0" y="68"/>
                  </a:lnTo>
                  <a:close/>
                  <a:moveTo>
                    <a:pt x="0" y="41"/>
                  </a:moveTo>
                  <a:lnTo>
                    <a:pt x="158" y="41"/>
                  </a:lnTo>
                  <a:lnTo>
                    <a:pt x="158" y="27"/>
                  </a:lnTo>
                  <a:lnTo>
                    <a:pt x="0" y="27"/>
                  </a:lnTo>
                  <a:lnTo>
                    <a:pt x="0" y="41"/>
                  </a:lnTo>
                  <a:close/>
                  <a:moveTo>
                    <a:pt x="0" y="13"/>
                  </a:moveTo>
                  <a:lnTo>
                    <a:pt x="158" y="13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0" y="13"/>
                  </a:lnTo>
                  <a:close/>
                  <a:moveTo>
                    <a:pt x="216" y="144"/>
                  </a:moveTo>
                  <a:lnTo>
                    <a:pt x="256" y="144"/>
                  </a:lnTo>
                  <a:lnTo>
                    <a:pt x="256" y="89"/>
                  </a:lnTo>
                  <a:lnTo>
                    <a:pt x="216" y="89"/>
                  </a:lnTo>
                  <a:lnTo>
                    <a:pt x="216" y="144"/>
                  </a:lnTo>
                  <a:close/>
                  <a:moveTo>
                    <a:pt x="216" y="62"/>
                  </a:moveTo>
                  <a:lnTo>
                    <a:pt x="256" y="62"/>
                  </a:lnTo>
                  <a:lnTo>
                    <a:pt x="256" y="6"/>
                  </a:lnTo>
                  <a:lnTo>
                    <a:pt x="216" y="6"/>
                  </a:lnTo>
                  <a:lnTo>
                    <a:pt x="216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3920" y="20304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63920" y="19857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3920" y="19429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63920" y="18986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3920" y="18558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63920" y="18111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3920" y="176832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3920" y="17240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3920" y="167940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63920" y="16365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63920" y="15937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6640" y="1734840"/>
              <a:ext cx="63720" cy="8748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06640" y="1603080"/>
              <a:ext cx="63720" cy="88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0440" y="211752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SOC Disk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rot="16200000">
            <a:off x="3283560" y="2430000"/>
            <a:ext cx="432360" cy="296280"/>
          </a:xfrm>
          <a:prstGeom prst="bentConnector3">
            <a:avLst>
              <a:gd name="adj1" fmla="val 657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 flipV="1" rot="10800000">
            <a:off x="3809160" y="2525760"/>
            <a:ext cx="686520" cy="295560"/>
          </a:xfrm>
          <a:prstGeom prst="bentConnector3">
            <a:avLst>
              <a:gd name="adj1" fmla="val 97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 flipV="1">
            <a:off x="4495680" y="228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4495680"/>
            <a:ext cx="761760" cy="888840"/>
            <a:chOff x="5486400" y="4495680"/>
            <a:chExt cx="761760" cy="888840"/>
          </a:xfrm>
        </p:grpSpPr>
        <p:graphicFrame>
          <p:nvGraphicFramePr>
            <p:cNvPr id="149" name=""/>
            <p:cNvGraphicFramePr/>
            <p:nvPr/>
          </p:nvGraphicFramePr>
          <p:xfrm>
            <a:off x="5486400" y="4701600"/>
            <a:ext cx="329760" cy="682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486400" y="47016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647680" y="4624920"/>
            <a:ext cx="330120" cy="6832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5647680" y="46249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782320" y="4547520"/>
            <a:ext cx="330120" cy="682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782320" y="45475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5918040" y="4495680"/>
            <a:ext cx="330120" cy="6832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918040" y="44956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157" name=""/>
          <p:cNvCxnSpPr/>
          <p:nvPr/>
        </p:nvCxnSpPr>
        <p:spPr>
          <a:xfrm flipV="1" rot="16200000">
            <a:off x="6087960" y="5035680"/>
            <a:ext cx="305640" cy="74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58" name=""/>
          <p:cNvGraphicFramePr/>
          <p:nvPr/>
        </p:nvGraphicFramePr>
        <p:xfrm>
          <a:off x="6095880" y="2743200"/>
          <a:ext cx="579600" cy="37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095880" y="274320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627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05920" y="2285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2438280"/>
          <a:ext cx="523800" cy="9144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934320" y="2438280"/>
                    <a:ext cx="523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29600" y="3733920"/>
          <a:ext cx="579600" cy="371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229600" y="37339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232120" y="335268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5638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562720" y="5334120"/>
          <a:ext cx="1066680" cy="3045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5562720" y="5334120"/>
                    <a:ext cx="1066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module: scalesegment.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76120" y="920520"/>
            <a:ext cx="831240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* This module updates records in recordsets specified on the command line by rescaling segment “image” and recomputing its mean valu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include "jsoc_main.h"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Params_t default_params[] = {  {"alpha", NULL},   {"beta", NULL},    {NULL, NULL}}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DoIt(void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j,k, coun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RecordSet_t *oldrs, *newrs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Array_t *array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gment_t *oldseg, *newseg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alpha, beta, *data, sum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pha = cmdparams_get_double(&amp;cmdparams, "alpha", &amp;status);  /* Read scaling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a = cmdparams_get_double(&amp;cmdparams, "beta", &amp;status);      /* Read offset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name = cmdparams_getarg(&amp;cmdparams,1);                               /* Get query string from command lin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rs = drms_open_records(drms_env, rsname, &amp;status);              /* Query DRMS for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rs = drms_create_records(drms_env, oldrs-&gt;n,  oldrs-&gt;records[0]-&gt;seriesinfo.seriesname,  &amp;status); /* Create new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j=0; j&lt;oldrs-&gt;n; j++)               /* Loop over records in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seg = drms_segment_lookup(oldrs-&gt;records[I], “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eg = drms_segment_lookup(newrs-&gt;records[i],”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y = drms_segment_read(oldseg, DRMS_TYPE_DOUBLE, &amp;status);   /* Read old segment, converting to doubl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= drms_array_count(array)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/* Get number of array element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= array-&gt;data;  count = 0; sum = 0.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k=0; k&lt;n; k++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(data[k] != DRMS_MISSING_DOUB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++;  data[k] = alpha*data[k] + beta;  sum += data[k]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/* Scale array and and compute new statistic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tkey_double(newrs-&gt;records[j], “datamean”, sum/count);              /* Set datamean keyword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= drms_segment_write(newseg, array);                                           /* Write array to new record segmen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free_array(array)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oldrs, DRMS_DISCARD_RECORD);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newrs, DRMS_COMMIT_RECORD);                                  /* Close new record set, insert it into the databas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C Hardware configu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ub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1600" y="1038240"/>
            <a:ext cx="872172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: Storage Unit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of storage units and their location on disk and 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JSOC storage subsystems: Disk array, Robotic tap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ubs old data from disk cache to maintain enough free work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s and unloads tape to/from tape drives and robotic 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es disk storage need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storage units request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PC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cle DBMS (to be migrated to PostgreSQ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: Data Record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tables with definitions of all JSOC series and their keyword, link and data segment defin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table per series containing record meta-data, e.g. keyword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distributed transaction processing framework for 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full meta-data searching through JSOC query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-column indexed searches on primary index values allows for fast and simple querying for common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sion of free-form SQL clauses allows advanced que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software libraries for querying, creating, retrieving and storing JSOC series, data records and their keywords, links, and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 available in C. Wrappers (with read-only restriction?) for Fortran, Matlab and IDL are plann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IP socket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greSQL DB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ny DB replication system to be added for managing query load and enabling multi-site distributed arch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38768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43040" y="39434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peline software/hardware architectur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1040" y="318132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9520" y="942840"/>
            <a:ext cx="3564000" cy="2589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85920" y="1009800"/>
            <a:ext cx="3562200" cy="26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9240" y="1717560"/>
            <a:ext cx="3252600" cy="347760"/>
          </a:xfrm>
          <a:prstGeom prst="flowChartProcess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program “modu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7960" y="3178080"/>
            <a:ext cx="3195720" cy="36360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Cac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eywords+Links+Data pa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69880" y="2093760"/>
            <a:ext cx="5040" cy="4413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17320" y="2909880"/>
            <a:ext cx="4680" cy="26820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1600" y="2093760"/>
            <a:ext cx="0" cy="4413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8600" y="2544840"/>
            <a:ext cx="3224160" cy="36504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1840" y="2120760"/>
            <a:ext cx="108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6400" y="213048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Keyword, SetKey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Link, Set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6680" y="2130480"/>
            <a:ext cx="121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9240" y="2089080"/>
            <a:ext cx="0" cy="44604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55920" y="2914560"/>
            <a:ext cx="4680" cy="2635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86720" y="308628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00840" y="2933640"/>
            <a:ext cx="914400" cy="60984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96240" y="280044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24560" y="2724120"/>
            <a:ext cx="3271680" cy="4287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6160" y="4019400"/>
            <a:ext cx="1466640" cy="78120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7640" y="4000680"/>
            <a:ext cx="1600200" cy="8380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SU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19480" y="3524400"/>
            <a:ext cx="0" cy="4950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3040" y="4991040"/>
            <a:ext cx="1066680" cy="1047960"/>
          </a:xfrm>
          <a:prstGeom prst="flowChartMagneticTape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botic Ta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48480" y="4629240"/>
            <a:ext cx="1123920" cy="70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67560" y="3309840"/>
            <a:ext cx="122400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048280"/>
            <a:ext cx="5867280" cy="1504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524560"/>
            <a:ext cx="1066680" cy="87624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1320" y="523872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81680" y="5581800"/>
            <a:ext cx="1352520" cy="79992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5372280"/>
            <a:ext cx="133380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52456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640" y="50752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33040" y="4800600"/>
            <a:ext cx="1295640" cy="7239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4800600"/>
            <a:ext cx="361800" cy="4381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29480" y="483876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4638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77080" y="410832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c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7000" y="50896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3280" y="48610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43880" y="514656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34400" y="3946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2520" y="267012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 Segment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5320" y="468936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20000" y="211788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1871640"/>
            <a:ext cx="3228840" cy="105264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3641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MS socket protoc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5048280"/>
            <a:ext cx="0" cy="1514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89240" y="1116000"/>
            <a:ext cx="150948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Sc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4200" y="1116000"/>
            <a:ext cx="152856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ility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33880" y="1781280"/>
            <a:ext cx="2085840" cy="306684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Work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02080" y="559764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72608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0"/>
            <a:endCxn id="226" idx="2"/>
          </p:cNvCxnSpPr>
          <p:nvPr/>
        </p:nvCxnSpPr>
        <p:spPr>
          <a:xfrm flipH="1" flipV="1">
            <a:off x="5176080" y="4847760"/>
            <a:ext cx="396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422280" y="2687040"/>
            <a:ext cx="1309680" cy="12502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chedu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1170000"/>
            <a:ext cx="1460520" cy="812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process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2"/>
            <a:endCxn id="231" idx="0"/>
          </p:cNvCxnSpPr>
          <p:nvPr/>
        </p:nvCxnSpPr>
        <p:spPr>
          <a:xfrm flipH="1">
            <a:off x="1077480" y="1995480"/>
            <a:ext cx="1712160" cy="6739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2087640" y="2583000"/>
            <a:ext cx="1587600" cy="14634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script, “mapfi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ipeline modules with needed datasets for input,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306080"/>
            <a:ext cx="1285920" cy="1036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4"/>
            <a:endCxn id="231" idx="0"/>
          </p:cNvCxnSpPr>
          <p:nvPr/>
        </p:nvCxnSpPr>
        <p:spPr>
          <a:xfrm flipH="1">
            <a:off x="1077480" y="2176200"/>
            <a:ext cx="230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31" idx="3"/>
            <a:endCxn id="234" idx="1"/>
          </p:cNvCxnSpPr>
          <p:nvPr/>
        </p:nvCxnSpPr>
        <p:spPr>
          <a:xfrm>
            <a:off x="1731600" y="3312720"/>
            <a:ext cx="3466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34" idx="3"/>
            <a:endCxn id="226" idx="1"/>
          </p:cNvCxnSpPr>
          <p:nvPr/>
        </p:nvCxnSpPr>
        <p:spPr>
          <a:xfrm>
            <a:off x="3684600" y="331452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9" name=""/>
          <p:cNvCxnSpPr>
            <a:stCxn id="231" idx="2"/>
            <a:endCxn id="229" idx="0"/>
          </p:cNvCxnSpPr>
          <p:nvPr/>
        </p:nvCxnSpPr>
        <p:spPr>
          <a:xfrm>
            <a:off x="1077480" y="3955680"/>
            <a:ext cx="540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734160" y="3033720"/>
            <a:ext cx="1498680" cy="5202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History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0000" y="400212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4440" y="316548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2" idx="2"/>
            <a:endCxn id="241" idx="0"/>
          </p:cNvCxnSpPr>
          <p:nvPr/>
        </p:nvCxnSpPr>
        <p:spPr>
          <a:xfrm flipH="1">
            <a:off x="5187240" y="3740040"/>
            <a:ext cx="3135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4" name=""/>
          <p:cNvCxnSpPr>
            <a:stCxn id="245" idx="2"/>
            <a:endCxn id="241" idx="0"/>
          </p:cNvCxnSpPr>
          <p:nvPr/>
        </p:nvCxnSpPr>
        <p:spPr>
          <a:xfrm>
            <a:off x="5138280" y="3263400"/>
            <a:ext cx="5004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562640" y="268920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7" idx="2"/>
            <a:endCxn id="241" idx="0"/>
          </p:cNvCxnSpPr>
          <p:nvPr/>
        </p:nvCxnSpPr>
        <p:spPr>
          <a:xfrm>
            <a:off x="4824360" y="2816280"/>
            <a:ext cx="3643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4248000" y="224172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18000" y="1887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26" idx="3"/>
            <a:endCxn id="240" idx="1"/>
          </p:cNvCxnSpPr>
          <p:nvPr/>
        </p:nvCxnSpPr>
        <p:spPr>
          <a:xfrm flipV="1">
            <a:off x="6219360" y="3293640"/>
            <a:ext cx="505800" cy="216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600" y="2352600"/>
            <a:ext cx="7829640" cy="321948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Session: Pipeline transaction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1800" y="1199880"/>
            <a:ext cx="8087040" cy="11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DRMS session is encapsulated in a single database transac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odule fails all data record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become visible to other clients of the JSOC catalog at the end of th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ilure occurs all data records are deleted and the databa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led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force DRMS to commit data produced so far during a session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2160" y="4962600"/>
            <a:ext cx="4257720" cy="447480"/>
          </a:xfrm>
          <a:prstGeom prst="roundRect">
            <a:avLst>
              <a:gd name="adj" fmla="val 16667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Service = Session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83040" y="2227320"/>
            <a:ext cx="242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92480" y="4503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5800" y="450360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43240" y="355248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2904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7920" y="329256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5320" y="267660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D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6680" y="327348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33440" y="265752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65440" y="4102200"/>
            <a:ext cx="102708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2200" y="3486240"/>
            <a:ext cx="103356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224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5140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4348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2240" y="3591000"/>
            <a:ext cx="914400" cy="135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8484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92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 D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238800" y="3552840"/>
            <a:ext cx="952560" cy="140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1560" y="23511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batch = atomic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437148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37184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772240" y="353340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52600" y="5829480"/>
            <a:ext cx="1162080" cy="60948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&amp;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91240" y="5867280"/>
            <a:ext cx="914400" cy="60984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924280" y="5410080"/>
            <a:ext cx="95256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57680" y="53910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6800" y="2997360"/>
            <a:ext cx="102744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2381400"/>
            <a:ext cx="10332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334040" y="328572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276720"/>
            <a:ext cx="0" cy="168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96840"/>
            <a:ext cx="7327800" cy="2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SOC Tape Block Dia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33520" y="1143000"/>
            <a:ext cx="761760" cy="762120"/>
            <a:chOff x="533520" y="1143000"/>
            <a:chExt cx="761760" cy="762120"/>
          </a:xfrm>
        </p:grpSpPr>
        <p:sp>
          <p:nvSpPr>
            <p:cNvPr id="287" name=""/>
            <p:cNvSpPr/>
            <p:nvPr/>
          </p:nvSpPr>
          <p:spPr>
            <a:xfrm>
              <a:off x="533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76520" y="1143000"/>
            <a:ext cx="761760" cy="762120"/>
            <a:chOff x="1676520" y="1143000"/>
            <a:chExt cx="761760" cy="762120"/>
          </a:xfrm>
        </p:grpSpPr>
        <p:sp>
          <p:nvSpPr>
            <p:cNvPr id="290" name=""/>
            <p:cNvSpPr/>
            <p:nvPr/>
          </p:nvSpPr>
          <p:spPr>
            <a:xfrm>
              <a:off x="1676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8200" y="2506680"/>
            <a:ext cx="1447560" cy="609480"/>
            <a:chOff x="808200" y="2506680"/>
            <a:chExt cx="1447560" cy="609480"/>
          </a:xfrm>
        </p:grpSpPr>
        <p:sp>
          <p:nvSpPr>
            <p:cNvPr id="293" name=""/>
            <p:cNvSpPr/>
            <p:nvPr/>
          </p:nvSpPr>
          <p:spPr>
            <a:xfrm>
              <a:off x="808200" y="250668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6800" y="258264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_sv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81280" y="259092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0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1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19320" y="5334120"/>
            <a:ext cx="2971800" cy="914400"/>
            <a:chOff x="1219320" y="5334120"/>
            <a:chExt cx="2971800" cy="914400"/>
          </a:xfrm>
        </p:grpSpPr>
        <p:sp>
          <p:nvSpPr>
            <p:cNvPr id="299" name=""/>
            <p:cNvSpPr/>
            <p:nvPr/>
          </p:nvSpPr>
          <p:spPr>
            <a:xfrm>
              <a:off x="12193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5334120"/>
            <a:ext cx="2971800" cy="914400"/>
            <a:chOff x="4876920" y="5334120"/>
            <a:chExt cx="2971800" cy="914400"/>
          </a:xfrm>
        </p:grpSpPr>
        <p:sp>
          <p:nvSpPr>
            <p:cNvPr id="302" name=""/>
            <p:cNvSpPr/>
            <p:nvPr/>
          </p:nvSpPr>
          <p:spPr>
            <a:xfrm>
              <a:off x="48769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4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076640" y="1123920"/>
            <a:ext cx="990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15200" y="250668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83640" y="664380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SOC_Tape_Block_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5320" y="1911240"/>
            <a:ext cx="335160" cy="595440"/>
          </a:xfrm>
          <a:custGeom>
            <a:avLst/>
            <a:gdLst/>
            <a:ahLst/>
            <a:rect l="l" t="t" r="r" b="b"/>
            <a:pathLst>
              <a:path w="139" h="236">
                <a:moveTo>
                  <a:pt x="0" y="0"/>
                </a:moveTo>
                <a:lnTo>
                  <a:pt x="139" y="2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8320" y="1892160"/>
            <a:ext cx="308160" cy="614520"/>
          </a:xfrm>
          <a:custGeom>
            <a:avLst/>
            <a:gdLst/>
            <a:ahLst/>
            <a:rect l="l" t="t" r="r" b="b"/>
            <a:pathLst>
              <a:path w="191" h="248">
                <a:moveTo>
                  <a:pt x="191" y="0"/>
                </a:moveTo>
                <a:lnTo>
                  <a:pt x="0" y="2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66920" y="285264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6560" y="285264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572000" y="196956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7440" y="6305400"/>
            <a:ext cx="20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rols tape pos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ad/wr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35160" y="3429000"/>
            <a:ext cx="9604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17960" y="3429000"/>
            <a:ext cx="88272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88388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9760" y="4708440"/>
            <a:ext cx="363600" cy="641520"/>
          </a:xfrm>
          <a:custGeom>
            <a:avLst/>
            <a:gdLst/>
            <a:ahLst/>
            <a:rect l="l" t="t" r="r" b="b"/>
            <a:pathLst>
              <a:path w="229" h="404">
                <a:moveTo>
                  <a:pt x="0" y="0"/>
                </a:moveTo>
                <a:lnTo>
                  <a:pt x="229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93960" y="4735440"/>
            <a:ext cx="26820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892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8560" y="3121200"/>
            <a:ext cx="20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read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2600" y="312120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write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52400" y="34290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ccess to all tape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0280" y="19699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tus &amp; robot to shelf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54960" y="473544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lot to drive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0:04:10Z</dcterms:created>
  <dc:creator>Rasmus Munk Larsen</dc:creator>
  <dc:description/>
  <cp:keywords/>
  <dc:language>en-US</dc:language>
  <cp:lastModifiedBy>Rasmus Munk Larsen</cp:lastModifiedBy>
  <cp:lastPrinted>1997-10-08T17:14:34Z</cp:lastPrinted>
  <dcterms:modified xsi:type="dcterms:W3CDTF">2006-02-13T21:42:10Z</dcterms:modified>
  <cp:revision>61</cp:revision>
  <dc:subject>HMI System Requirements Review</dc:subject>
  <dc:title>JSOC Pipeline Processing: Infrastructure, Environment and Data Products</dc:title>
</cp:coreProperties>
</file>